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37E78-B612-4129-84C9-FFA265E3E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1F2DB-F947-4319-A1CB-05DDB9A8E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EE013-5A8B-4B77-AB93-B444D6FEC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89CC6-3C82-47B2-9D50-D9030C35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80031-166E-4E6B-9817-2B6734E26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61FA9-279B-4A61-A016-D76780412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F080C-E3AC-446B-A09F-B691E13D1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4AE29-5714-4B87-8EC7-06C65A37F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8364F-F239-4A60-AEBE-C6D006D9D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B1BC0-D845-4291-A348-E121ABF8E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EFF95-2724-4D92-B819-A58DB0F34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BEEE-67CF-4667-8B29-E6D68C149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24EE-63DB-404E-8725-3EF312BC6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D3B89-6926-47CB-91B0-2B5647A04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872DD-DF2A-421D-9F17-F93A8EB7C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2E14C-4872-422C-9D65-2CA9ADC34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E0026-17FC-461F-B7E5-9A0218B24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B7A135-F1CE-4DEE-B9DD-ED7E861441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EABF1-0848-42C6-A2ED-8F756148B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1B7A63-78D0-41F2-B661-8447CB86D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AF2FB-611F-44E4-9491-BFBDE1005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EC3F7-A745-47BB-A82A-B371DAFD3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30E13-4DFA-4781-8B6C-E7496B971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4D3D5-E53D-4E26-9B84-21046FA68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12126-EABF-4AD7-9667-1D73B563A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05039-B5DA-4DC3-8185-F719643B1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E0E79-17C6-41F2-BB57-03941448E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96599-2E49-4D1D-B067-B5F68156B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79C497-649F-46C1-9D0A-6D42693734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873F72-7BB3-446E-820C-2D03F15A24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2EE45A-2628-470B-8F85-542362DF1A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45E97-1BDE-4AFF-BE6F-60B0BE35D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074B6-46D6-4A44-A2D5-D859F6E5B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9D6C8-CD5D-4706-830A-67CC8F241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1712A9-DEA0-40E5-B214-DFC6CC308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71E26-BA56-42E9-A05E-46C464B84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695F6-047B-486D-B246-9666615A9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538FE-848F-4A82-8D4A-E76C1C3DF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A49EE-6740-4999-85E6-8A876EDD03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3CB94-6450-471A-9F28-D1089E767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7AB5A4-F70A-48A5-8A73-F8D2F2526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615A8-7658-4334-919D-0775D60BD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4F3C71-95C3-4458-BAB5-83460A183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AAD424-711E-462D-9072-E6F4444ECD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1970-FBF1-4A4D-80A3-81EE050D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094B3-C0AA-4C9A-A5AD-E3856A7DD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8B8827-2C49-4BE7-AC87-5FCE18EA6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44D71-F0C5-4E1F-81EF-BBC80E292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26A18-A91B-49C6-AA69-46AD91684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C35DE-05C3-4136-BCC8-1FECBF5775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A4A9B-6E0D-4D7E-AD09-8E9701E01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2CD24-71D5-4854-85C1-F9F9C5137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83BA8-3C73-4E62-8CE5-090EADDC7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4639F-6D10-4E3C-BD7F-559EBC138B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8EA848-C62A-453F-860F-8F01A4B65F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33AAE-B474-4563-9F63-A287F789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A813AE-0354-43C5-A787-6E9EA5E2EB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84A4A8-0EFF-42D2-8B46-223C83672B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4B2071-9720-4116-A77F-C592B9DFF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5BBBD-AA99-474E-AADA-C7004BD83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75195-17A6-4511-8AD7-81F084AB7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ADE7E3-A921-4550-817A-F9A862861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43F815-B8D8-49E3-81E4-31F90F21F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8E7D5-8B0B-4BDD-A4C4-2BAAEE78F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25EFA9-DAC7-48C8-8BD5-770DE6A63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97588-5A97-4D98-BAE2-658D701A4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11254-E0E9-4A83-8DE3-70B3A4F95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4C16B-C6ED-4105-8389-E2CA6FBDDC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C10B39-32D9-4922-947B-CFD4377B99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77663B-03E8-4557-A013-9F5A973D24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721DD2-657B-4AC2-8955-0F0A8428BB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566406-ACA2-495D-AB0D-4BEA9B0E5B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2F0232-B401-463D-9405-40C0D2500A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433277-D361-4BE3-B891-1AE549324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228A7D-6CF0-4BD4-B80C-36628D2F6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ED99C-141C-4511-AF41-47C84D577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46036-7326-4DD0-AC8F-E496ACA16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D01F-D8D4-4325-8F3C-8F681AA02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77965-0629-4F18-8AF0-4C6469D87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B8C02-2DF4-4AAE-A28C-EC08BEC18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CA9FD-A1CE-4CE0-BC4C-F993AB9B33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AE768E-242E-4038-8025-221ADCEBA5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0B58C9-5170-45D5-BE7B-E2B0209C11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D7DC59-6DC4-4DC8-B3B3-AAF934C6D5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188D6-A460-42B8-A5A4-06EAAA796B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1E20A1-481B-4348-A295-66D19ADE04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B0458-4819-4ECA-80C2-82023747D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252B4-A7FB-4CCD-B7BD-242C5B42C7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FDC21-77A7-4B05-9720-201E22DC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D0BCE7-A4EF-45B3-A048-DC72CCCB3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3A80C-99D2-4A6A-8352-22E231170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C71861-C8F1-4CBA-984F-65B378611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C1A22-F2A5-4760-8FA3-E98FF83C6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E8A7F-C501-49AB-BEA4-3A0759616F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E68252-CBFF-4906-BDE9-A21915B752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18EDD0-A701-4290-9C94-CC0E4DA6CBE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6769-2CB5-4115-B97C-6070FF43A6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AF22-8715-4855-B06D-F631B5932FA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6F3B-CB2D-46A2-A4CE-4265B7DFE6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AF0C-8CA7-43B4-BC59-F206B181A1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B22A-10FB-4583-B0E4-2145AB521F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E383-7C04-4A60-A4FC-82E1BFF913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1B0C-2DC6-4CE7-8B9F-D60E0FD98E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2966-9F1A-4B62-BC69-ABA42743F92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7785000" cy="1841400"/>
          </a:xfrm>
          <a:prstGeom prst="rect">
            <a:avLst/>
          </a:prstGeom>
          <a:ln w="0">
            <a:noFill/>
          </a:ln>
        </p:spPr>
      </p:pic>
      <p:sp>
        <p:nvSpPr>
          <p:cNvPr id="371" name="PlaceHolder 1"/>
          <p:cNvSpPr>
            <a:spLocks noGrp="1"/>
          </p:cNvSpPr>
          <p:nvPr>
            <p:ph type="subTitle"/>
          </p:nvPr>
        </p:nvSpPr>
        <p:spPr>
          <a:xfrm>
            <a:off x="1752480" y="3428640"/>
            <a:ext cx="6400800" cy="167652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t Portfolio Presentation</a:t>
            </a: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Barbara L. Geha</a:t>
            </a: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pic>
        <p:nvPicPr>
          <p:cNvPr id="372" name="Picture 5" descr="http://t0.gstatic.com/images?q=tbn:9D7IxoI_WOHnJM:http://www.4neurons.com/other/Magnifying_Glass/Magnifying_Glass.png"/>
          <p:cNvPicPr/>
          <p:nvPr/>
        </p:nvPicPr>
        <p:blipFill>
          <a:blip r:embed="rId2"/>
          <a:stretch/>
        </p:blipFill>
        <p:spPr>
          <a:xfrm>
            <a:off x="4267080" y="914400"/>
            <a:ext cx="2590920" cy="1781280"/>
          </a:xfrm>
          <a:prstGeom prst="rect">
            <a:avLst/>
          </a:prstGeom>
          <a:ln w="0">
            <a:noFill/>
          </a:ln>
        </p:spPr>
      </p:pic>
      <p:pic>
        <p:nvPicPr>
          <p:cNvPr id="373" name="Picture 7" descr="http://t3.gstatic.com/images?q=tbn:cSoDvnW-6SnvAM:http://bloggingwoolf.files.wordpress.com/2008/12/magnifying-glass.jpg"/>
          <p:cNvPicPr/>
          <p:nvPr/>
        </p:nvPicPr>
        <p:blipFill>
          <a:blip r:embed="rId3"/>
          <a:stretch/>
        </p:blipFill>
        <p:spPr>
          <a:xfrm>
            <a:off x="1981080" y="914400"/>
            <a:ext cx="175284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599840" y="1447560"/>
            <a:ext cx="7162920" cy="453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will learn the differences and similarities of various informational resources and how to apply them to their everyday lives. Through group and individual participation students will create presentations and demonstrate their understanding of the best resources to use to locate information.</a:t>
            </a:r>
            <a:endParaRPr b="0" lang="en-US" sz="2800" spc="-1" strike="noStrike">
              <a:solidFill>
                <a:srgbClr val="000000"/>
              </a:solidFill>
              <a:latin typeface="Lucida Sans Unicode"/>
            </a:endParaRPr>
          </a:p>
        </p:txBody>
      </p:sp>
      <p:pic>
        <p:nvPicPr>
          <p:cNvPr id="375" name="Rectangle 2" descr=""/>
          <p:cNvPicPr/>
          <p:nvPr/>
        </p:nvPicPr>
        <p:blipFill>
          <a:blip r:embed="rId1"/>
          <a:stretch/>
        </p:blipFill>
        <p:spPr>
          <a:xfrm>
            <a:off x="450720" y="268200"/>
            <a:ext cx="8242560" cy="1158840"/>
          </a:xfrm>
          <a:prstGeom prst="rect">
            <a:avLst/>
          </a:prstGeom>
          <a:ln w="0">
            <a:noFill/>
          </a:ln>
        </p:spPr>
      </p:pic>
      <p:sp>
        <p:nvSpPr>
          <p:cNvPr id="376"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47920" y="1066320"/>
            <a:ext cx="7238880" cy="5257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ssential Question </a:t>
            </a:r>
            <a:br>
              <a:rPr sz="2800"/>
            </a:br>
            <a:r>
              <a:rPr b="0" lang="en-US" sz="2400" spc="-1" strike="noStrike">
                <a:solidFill>
                  <a:srgbClr val="000000"/>
                </a:solidFill>
                <a:latin typeface="Lucida Sans Unicode"/>
              </a:rPr>
              <a:t>Where is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Unit Questions</a:t>
            </a:r>
            <a:br>
              <a:rPr sz="2800"/>
            </a:br>
            <a:r>
              <a:rPr b="0" lang="en-US" sz="2400" spc="-1" strike="noStrike">
                <a:solidFill>
                  <a:srgbClr val="000000"/>
                </a:solidFill>
                <a:latin typeface="Lucida Sans Unicode"/>
              </a:rPr>
              <a:t>Where do you find the informa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Content Question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kind of information can be found using a dictionary, thesaurus, almanac, atlas, encyclopedia, website, trade book, journal, and textboo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an online source or a book be used effectively in locating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do I know what is the best resource to use to find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are the similarities and differences between the various informational resourc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9512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47920" y="1599840"/>
            <a:ext cx="7238880" cy="1066680"/>
          </a:xfrm>
          <a:prstGeom prst="rect">
            <a:avLst/>
          </a:prstGeom>
          <a:noFill/>
          <a:ln w="0">
            <a:noFill/>
          </a:ln>
        </p:spPr>
        <p:txBody>
          <a:bodyPr anchor="t">
            <a:normAutofit/>
          </a:bodyPr>
          <a:p>
            <a:pPr>
              <a:spcBef>
                <a:spcPts val="400"/>
              </a:spcBef>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project will help my students develop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skills by:</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450720" y="268200"/>
            <a:ext cx="8242560" cy="1158840"/>
          </a:xfrm>
          <a:prstGeom prst="rect">
            <a:avLst/>
          </a:prstGeom>
          <a:ln w="0">
            <a:noFill/>
          </a:ln>
        </p:spPr>
      </p:pic>
      <p:sp>
        <p:nvSpPr>
          <p:cNvPr id="382" name="Text Box 4"/>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Collaborating with peer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e, think critically, and gain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conclusions, make informed decisions, apply knowledge to new situations and create new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knowledge and participate ethically and productively as members of our democratic socie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e personal and aesthetic grow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1182600" y="298440"/>
            <a:ext cx="7686720" cy="1158840"/>
          </a:xfrm>
          <a:prstGeom prst="rect">
            <a:avLst/>
          </a:prstGeom>
          <a:ln w="0">
            <a:noFill/>
          </a:ln>
        </p:spPr>
      </p:pic>
      <p:sp>
        <p:nvSpPr>
          <p:cNvPr id="384" name="Text Box 7"/>
          <p:cNvSpPr/>
          <p:nvPr/>
        </p:nvSpPr>
        <p:spPr>
          <a:xfrm>
            <a:off x="1371600" y="1066680"/>
            <a:ext cx="7162920" cy="612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need to know about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information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various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various informational resources, I can provide scaffolds. If students have different levels of understanding about informational resource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student activities. I think I need to elicit more higher-order thinking, but I’m not sure how.</a:t>
            </a:r>
            <a:endParaRPr b="0" lang="en-US" sz="1800" spc="-1" strike="noStrike">
              <a:solidFill>
                <a:srgbClr val="000000"/>
              </a:solidFill>
              <a:latin typeface="Arial"/>
            </a:endParaRPr>
          </a:p>
        </p:txBody>
      </p:sp>
      <p:graphicFrame>
        <p:nvGraphicFramePr>
          <p:cNvPr id="385" name="Object 9"/>
          <p:cNvGraphicFramePr/>
          <p:nvPr/>
        </p:nvGraphicFramePr>
        <p:xfrm>
          <a:off x="7696080" y="762120"/>
          <a:ext cx="914400" cy="714240"/>
        </p:xfrm>
        <a:graphic>
          <a:graphicData uri="http://schemas.openxmlformats.org/presentationml/2006/ole">
            <p:oleObj progId="Word.Document.12" r:id="rId2" spid="">
              <p:embed/>
              <p:pic>
                <p:nvPicPr>
                  <p:cNvPr id="386" name="Object 9" descr=""/>
                  <p:cNvPicPr/>
                  <p:nvPr/>
                </p:nvPicPr>
                <p:blipFill>
                  <a:blip r:embed="rId3"/>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ways to get my students more interested in learning about all the various information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about different kinds of technology my students and I can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are ideas with other teachers</a:t>
            </a:r>
            <a:endParaRPr b="0" lang="en-US" sz="2700" spc="-1" strike="noStrike">
              <a:solidFill>
                <a:srgbClr val="000000"/>
              </a:solidFill>
              <a:latin typeface="Lucida Sans Unicode"/>
            </a:endParaRPr>
          </a:p>
        </p:txBody>
      </p:sp>
      <p:pic>
        <p:nvPicPr>
          <p:cNvPr id="388" name="Rectangle 4" descr=""/>
          <p:cNvPicPr/>
          <p:nvPr/>
        </p:nvPicPr>
        <p:blipFill>
          <a:blip r:embed="rId1"/>
          <a:stretch/>
        </p:blipFill>
        <p:spPr>
          <a:xfrm>
            <a:off x="1139760" y="268200"/>
            <a:ext cx="75535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371600" y="1905120"/>
            <a:ext cx="7238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learn about all the various informational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become more independent learners and gain knowledge about what is the best informational resource to use that is available online and in book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1365120" y="530280"/>
            <a:ext cx="73281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te additional technology available for student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 engaging lessons and activities that targets the needs of diverse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learners</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default</cp:lastModifiedBy>
  <dcterms:modified xsi:type="dcterms:W3CDTF">2010-06-09T20:23:21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