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12.png" ContentType="image/png"/>
  <Override PartName="/ppt/media/image17.png" ContentType="image/png"/>
  <Override PartName="/ppt/media/image16.png" ContentType="image/png"/>
  <Override PartName="/ppt/media/image15.png" ContentType="image/png"/>
  <Override PartName="/ppt/media/image14.wmf" ContentType="image/x-wmf"/>
  <Override PartName="/ppt/media/image5.jpeg" ContentType="image/jpeg"/>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png" ContentType="image/png"/>
  <Override PartName="/ppt/media/image7.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9D8455-52D7-4F83-BAA6-8230010918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9232C-F00C-4F12-AFE1-31DE6BA54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FB440-7B7E-4AE8-B5B1-A00BC30079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7C79A-9D55-48EE-BE12-CD8E414D7F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7BCC9D-E3E6-45B6-8A16-9CFF3AB4B1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A798A-634F-4B16-9C45-E1226D8F3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F6AEFC-F749-4E5B-A5BE-05A1453131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5F422-D860-4AF0-A1BB-D6AB3E065E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E85E4-184A-476A-9A2A-44BBE34B65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55B908-54EC-4DF5-94AD-8DC1CAD69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49E0-98AE-42FD-952B-AE301F73E7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0A94B1-2961-45AC-BED2-5B7CCDA8A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93FC56-BE02-4371-ADF9-DC97423A27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C4D116-53F0-4788-91A2-641A7EAACB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C4BA6-D5BF-4570-8F35-634198382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3CA2EA-E52D-46E2-BE39-34E95C91B6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0E68B6-4E4F-4DFB-85A2-84A3636BD5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74106B-6973-4510-814E-A25FFE08F1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66F600-2D9C-4444-A871-7017330FDF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12CE3E5-53B9-4934-B04A-39FD754D99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EAA75B-EBAD-435D-8D70-3B011D74D1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DA54A02-ACB5-4B19-9B89-47294F7FF8C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BDE1D3-97FA-4B10-B538-B71E88158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F7EAAB-DD5A-44B3-816C-7BF6E34448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C1FF7-7C36-4F1D-8920-07D6E38569F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5588B-F3BE-4F60-9A79-6F592838FC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E6A606-3DDB-43AE-82BE-A43EEFA0EB8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240EF5E-29E2-41C7-BCD3-286F8ACEFC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B57075A-83F6-4071-AC4D-001DA68F31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223DD0-29C8-4DB7-AE1F-36AABCA7C4B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335E2A-7C9E-4589-9A84-C2C6C14F3A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6107C29-C4FD-441D-9E67-7C42E34A61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4324E9-4F2C-4763-B051-7A9A6719BF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DB55BB-A366-4203-B980-AA8E94F61F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89C0D8-9118-40A9-B7C6-9D4C1F76A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FA4449-71C3-473D-8F3F-EFB6BCD04A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2D373A-0CB7-4A51-A8B4-F637EBF4A5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ED42CD-A9D6-4EBE-A82A-E33770BEFF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BC5A7E-8CE0-4A2A-956B-B07E8F4FF9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2381E-8709-4B75-975C-7DA4581268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524C05-D9C9-4D3F-8D9E-D5E61F2F83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0F80957-9548-417F-8703-A41D01B68A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B8EAC28-6353-40B1-9514-00E3BFF7A8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AD9EA4E-19AE-474F-B235-6F26AB2783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29788D-4674-47B1-9BC1-3BFF38DD4A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CF56B3-97DB-4D51-9328-9F4D709EEA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D7C1F02-D484-48D5-8D72-32BE4B9B6DE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7990E5-0987-4442-AE9C-1298FBABC7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5A740D-5CF5-473A-97CC-CEC26BB7871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4CADF9-251A-482D-9DC3-10169EEBEB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87B2A1C-240E-4D87-81F7-8DA1D492E8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86958A-009A-4F24-B086-D35D3DB929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EEFA4-EB98-4FED-8120-8A69DCBFF3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FF496C-E2CC-40D0-A090-9C311AD0E6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7254FDF-D7E7-4772-B088-F4D06FE2E0B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A1503-0C68-4D1D-B099-08554DE68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0F52623-DE70-4B20-B526-F5554E4C084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6B50BD7-4546-465D-982C-9B91BEE921B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173318-DB93-44CE-8E19-9282CBE584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5366F2C-8E54-4D5A-AD0D-5BD0979208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BB2B3-BF36-4A98-942E-CC723879FA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8E4E5B-B96B-4B07-B4D0-B2D5838C72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9F6CE5-6643-4EFC-B22A-A7E2E0C623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A64298-861F-4055-8E88-63FAF2E86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78CB0C-13D3-4A5E-9B35-4F8C7F6FA7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A820C-D20F-4A1D-BD86-95F08FE93E8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BECD4-5C8F-440B-A844-ABD4BE000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8D950B-594D-4433-8F7B-10488E6F99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FC1E24B-CF2B-49F8-AB41-C83C54B22EE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4801A08-D813-4649-8752-85374BCFD7E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AC883B-6153-48AA-B038-2F30185AED1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323A0CC-FA64-44E8-813A-153E3DFE1B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BAB4BE-8104-40A7-85BC-9E0C13FF9E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F6780E-0EF5-4F40-951D-6EBD976C07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A625BA-4336-48A6-8052-5E9AD742774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C34ED9-01A9-4F91-8219-EDE83B714C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38BE20-1FEC-4B17-A93C-EEB8D22565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E8776-8F88-489E-B105-781340771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B578DC-00A7-45BD-90A9-076AA5F9B9A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BF6813-07E1-483B-A87E-FD8FBB2043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FB20B96-C29C-49B3-9E55-446F34EBEC4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41F8A34-1600-4E52-898B-0241011E371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AF929E0-4EC4-4C58-8500-37024BDB871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002CC-2A45-4431-A737-67FF09E2A0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E3015BE-902D-4AC4-B852-B22300F3C7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3F16F85-ED00-4221-A4BE-B608FD0E8D9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3484E8D-2407-44B1-9252-CA776E56A22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4A98D-28BB-4B9E-BA88-83D0718A0B6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7F49E-FDAD-480C-809E-54D97D841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DCA4E0B-1A4F-4F73-B14D-1A2346EAE77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8CF3E6-E471-4BF8-8765-1833BE783E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4B8177-C054-4801-8AFA-962EB338B91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4F8F82-3C3D-493E-9AD6-FE2500EBB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E264A6-2BF5-482D-B980-0F20980E3F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ACD2A7-4471-46D4-8B36-9D6C1ABEBF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6DAEEA7-D26F-49A5-84D9-6359203525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B82BA-662F-4180-B11E-E578A6EC141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72D91-F490-436A-951E-D3B58163AD8D}"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4272A-05DC-48AB-83E7-BEEB3888C61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73CC8-9224-4D48-A770-05B3BF98A63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4D86A-6EE4-480E-A0E3-4CCCB29BEA5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492E1-6CBF-49BD-94D8-E84E1CB1DD8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8B81-5444-4267-A894-82AB4E8F391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907BE-E188-4C8D-B768-6E87FA46FAE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682560" y="1749600"/>
            <a:ext cx="7785000" cy="1841400"/>
          </a:xfrm>
          <a:prstGeom prst="rect">
            <a:avLst/>
          </a:prstGeom>
          <a:ln w="0">
            <a:noFill/>
          </a:ln>
        </p:spPr>
      </p:pic>
      <p:sp>
        <p:nvSpPr>
          <p:cNvPr id="371" name="PlaceHolder 1"/>
          <p:cNvSpPr>
            <a:spLocks noGrp="1"/>
          </p:cNvSpPr>
          <p:nvPr>
            <p:ph type="subTitle"/>
          </p:nvPr>
        </p:nvSpPr>
        <p:spPr>
          <a:xfrm>
            <a:off x="1752480" y="3428640"/>
            <a:ext cx="6400800" cy="1676520"/>
          </a:xfrm>
          <a:prstGeom prst="rect">
            <a:avLst/>
          </a:prstGeom>
          <a:noFill/>
          <a:ln w="0">
            <a:noFill/>
          </a:ln>
        </p:spPr>
        <p:txBody>
          <a:bodyPr lIns="45720" rIns="45720" anchor="t">
            <a:no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Unit Portfolio Presentation</a:t>
            </a:r>
            <a:endParaRPr b="0" lang="en-US" sz="2700" spc="-1" strike="noStrike">
              <a:solidFill>
                <a:srgbClr val="000000"/>
              </a:solidFill>
              <a:latin typeface="Lucida Sans Unicode"/>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Lucida Sans Unicode"/>
              </a:rPr>
              <a:t>Barbara L. Geha</a:t>
            </a:r>
            <a:r>
              <a:rPr b="0" lang="en-US" sz="2700" spc="-1" strike="noStrike">
                <a:solidFill>
                  <a:srgbClr val="464646"/>
                </a:solidFill>
                <a:latin typeface="Lucida Sans Unicode"/>
              </a:rPr>
              <a:t> </a:t>
            </a:r>
            <a:endParaRPr b="0" lang="en-US" sz="2700" spc="-1" strike="noStrike">
              <a:solidFill>
                <a:srgbClr val="000000"/>
              </a:solidFill>
              <a:latin typeface="Lucida Sans Unicode"/>
            </a:endParaRPr>
          </a:p>
        </p:txBody>
      </p:sp>
      <p:pic>
        <p:nvPicPr>
          <p:cNvPr id="372" name="Picture 5" descr="http://t0.gstatic.com/images?q=tbn:9D7IxoI_WOHnJM:http://www.4neurons.com/other/Magnifying_Glass/Magnifying_Glass.png"/>
          <p:cNvPicPr/>
          <p:nvPr/>
        </p:nvPicPr>
        <p:blipFill>
          <a:blip r:embed="rId2"/>
          <a:stretch/>
        </p:blipFill>
        <p:spPr>
          <a:xfrm>
            <a:off x="4267080" y="914400"/>
            <a:ext cx="2590920" cy="1781280"/>
          </a:xfrm>
          <a:prstGeom prst="rect">
            <a:avLst/>
          </a:prstGeom>
          <a:ln w="0">
            <a:noFill/>
          </a:ln>
        </p:spPr>
      </p:pic>
      <p:pic>
        <p:nvPicPr>
          <p:cNvPr id="373" name="Picture 7" descr="http://t3.gstatic.com/images?q=tbn:cSoDvnW-6SnvAM:http://bloggingwoolf.files.wordpress.com/2008/12/magnifying-glass.jpg"/>
          <p:cNvPicPr/>
          <p:nvPr/>
        </p:nvPicPr>
        <p:blipFill>
          <a:blip r:embed="rId3"/>
          <a:stretch/>
        </p:blipFill>
        <p:spPr>
          <a:xfrm>
            <a:off x="1981080" y="914400"/>
            <a:ext cx="1752840" cy="1676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1599840" y="1447560"/>
            <a:ext cx="7162920" cy="4530600"/>
          </a:xfrm>
          <a:prstGeom prst="rect">
            <a:avLst/>
          </a:prstGeom>
          <a:noFill/>
          <a:ln w="0">
            <a:noFill/>
          </a:ln>
        </p:spPr>
        <p:txBody>
          <a:bodyPr anchor="t">
            <a:norm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tudents will learn the differences and similarities of various informational resources and how to apply them to their everyday lives. Through group and individual participation students will create presentations and demonstrate their understanding of the best resources to use to locate information.</a:t>
            </a:r>
            <a:endParaRPr b="0" lang="en-US" sz="2800" spc="-1" strike="noStrike">
              <a:solidFill>
                <a:srgbClr val="000000"/>
              </a:solidFill>
              <a:latin typeface="Lucida Sans Unicode"/>
            </a:endParaRPr>
          </a:p>
        </p:txBody>
      </p:sp>
      <p:pic>
        <p:nvPicPr>
          <p:cNvPr id="375" name="Rectangle 2" descr=""/>
          <p:cNvPicPr/>
          <p:nvPr/>
        </p:nvPicPr>
        <p:blipFill>
          <a:blip r:embed="rId1"/>
          <a:stretch/>
        </p:blipFill>
        <p:spPr>
          <a:xfrm>
            <a:off x="450720" y="268200"/>
            <a:ext cx="8242560" cy="1158840"/>
          </a:xfrm>
          <a:prstGeom prst="rect">
            <a:avLst/>
          </a:prstGeom>
          <a:ln w="0">
            <a:noFill/>
          </a:ln>
        </p:spPr>
      </p:pic>
      <p:sp>
        <p:nvSpPr>
          <p:cNvPr id="376" name="Rectangle 5"/>
          <p:cNvSpPr/>
          <p:nvPr/>
        </p:nvSpPr>
        <p:spPr>
          <a:xfrm>
            <a:off x="3746520" y="1219320"/>
            <a:ext cx="2801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9"/>
          <p:cNvSpPr/>
          <p:nvPr/>
        </p:nvSpPr>
        <p:spPr>
          <a:xfrm>
            <a:off x="6566040" y="1219320"/>
            <a:ext cx="26668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1447920" y="1066320"/>
            <a:ext cx="7238880" cy="5257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Essential Question </a:t>
            </a:r>
            <a:br>
              <a:rPr sz="2800"/>
            </a:br>
            <a:r>
              <a:rPr b="0" lang="en-US" sz="2400" spc="-1" strike="noStrike">
                <a:solidFill>
                  <a:srgbClr val="000000"/>
                </a:solidFill>
                <a:latin typeface="Lucida Sans Unicode"/>
              </a:rPr>
              <a:t>Where is it?</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Unit Questions</a:t>
            </a:r>
            <a:br>
              <a:rPr sz="2800"/>
            </a:br>
            <a:r>
              <a:rPr b="0" lang="en-US" sz="2400" spc="-1" strike="noStrike">
                <a:solidFill>
                  <a:srgbClr val="000000"/>
                </a:solidFill>
                <a:latin typeface="Lucida Sans Unicode"/>
              </a:rPr>
              <a:t>Where do you find the information?</a:t>
            </a:r>
            <a:endParaRPr b="0" lang="en-US" sz="24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Unicode"/>
              </a:rPr>
              <a:t>Content Questions</a:t>
            </a:r>
            <a:endParaRPr b="0" lang="en-US" sz="28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kind of information can be found using a dictionary, thesaurus, almanac, atlas, encyclopedia, website, trade book, journal, and textbook?</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Can an online source or a book be used effectively in locating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How do I know what is the best resource to use to find information?</a:t>
            </a:r>
            <a:endParaRPr b="0" lang="en-US" sz="20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What are the similarities and differences between the various informational resources?</a:t>
            </a:r>
            <a:endParaRPr b="0" lang="en-US" sz="20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pic>
        <p:nvPicPr>
          <p:cNvPr id="379" name="Rectangle 2" descr=""/>
          <p:cNvPicPr/>
          <p:nvPr/>
        </p:nvPicPr>
        <p:blipFill>
          <a:blip r:embed="rId1"/>
          <a:stretch/>
        </p:blipFill>
        <p:spPr>
          <a:xfrm>
            <a:off x="195120" y="268200"/>
            <a:ext cx="860112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1447920" y="1599840"/>
            <a:ext cx="7238880" cy="1066680"/>
          </a:xfrm>
          <a:prstGeom prst="rect">
            <a:avLst/>
          </a:prstGeom>
          <a:noFill/>
          <a:ln w="0">
            <a:noFill/>
          </a:ln>
        </p:spPr>
        <p:txBody>
          <a:bodyPr anchor="t">
            <a:normAutofit/>
          </a:bodyPr>
          <a:p>
            <a:pPr>
              <a:spcBef>
                <a:spcPts val="400"/>
              </a:spcBef>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s project will help my students develop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skills by:</a:t>
            </a:r>
            <a:endParaRPr b="0" lang="en-US" sz="2700" spc="-1" strike="noStrike">
              <a:solidFill>
                <a:srgbClr val="000000"/>
              </a:solidFill>
              <a:latin typeface="Lucida Sans Unicode"/>
            </a:endParaRPr>
          </a:p>
        </p:txBody>
      </p:sp>
      <p:pic>
        <p:nvPicPr>
          <p:cNvPr id="381" name="Rectangle 2" descr=""/>
          <p:cNvPicPr/>
          <p:nvPr/>
        </p:nvPicPr>
        <p:blipFill>
          <a:blip r:embed="rId1"/>
          <a:stretch/>
        </p:blipFill>
        <p:spPr>
          <a:xfrm>
            <a:off x="450720" y="268200"/>
            <a:ext cx="8242560" cy="1158840"/>
          </a:xfrm>
          <a:prstGeom prst="rect">
            <a:avLst/>
          </a:prstGeom>
          <a:ln w="0">
            <a:noFill/>
          </a:ln>
        </p:spPr>
      </p:pic>
      <p:sp>
        <p:nvSpPr>
          <p:cNvPr id="382" name="Text Box 4"/>
          <p:cNvSpPr/>
          <p:nvPr/>
        </p:nvSpPr>
        <p:spPr>
          <a:xfrm>
            <a:off x="1523880" y="2666880"/>
            <a:ext cx="7239240" cy="3942000"/>
          </a:xfrm>
          <a:prstGeom prst="rect">
            <a:avLst/>
          </a:prstGeom>
          <a:noFill/>
          <a:ln w="0">
            <a:noFill/>
          </a:ln>
        </p:spPr>
        <p:style>
          <a:lnRef idx="0"/>
          <a:fillRef idx="0"/>
          <a:effectRef idx="0"/>
          <a:fontRef idx="minor"/>
        </p:style>
        <p:txBody>
          <a:bodyPr lIns="90000" rIns="90000" tIns="46800" bIns="46800" anchor="t">
            <a:spAutoFit/>
          </a:bodyPr>
          <a:p>
            <a:pPr>
              <a:buClr>
                <a:srgbClr val="46464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4646"/>
                </a:solidFill>
                <a:latin typeface="Arial"/>
              </a:rPr>
              <a:t>Collaborating with peers.</a:t>
            </a:r>
            <a:r>
              <a:rPr b="0" lang="en-US" sz="2400" spc="-1" strike="noStrike">
                <a:solidFill>
                  <a:srgbClr val="000000"/>
                </a:solidFill>
                <a:latin typeface="Arial"/>
              </a:rPr>
              <a:t>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quire, think critically, and gain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w conclusions, make informed decisions, apply knowledge to new situations and create new knowledge</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re knowledge and participate ethically and productively as members of our democratic society</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rsue personal and aesthetic grow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1182600" y="298440"/>
            <a:ext cx="7686720" cy="1158840"/>
          </a:xfrm>
          <a:prstGeom prst="rect">
            <a:avLst/>
          </a:prstGeom>
          <a:ln w="0">
            <a:noFill/>
          </a:ln>
        </p:spPr>
      </p:pic>
      <p:sp>
        <p:nvSpPr>
          <p:cNvPr id="384" name="Text Box 7"/>
          <p:cNvSpPr/>
          <p:nvPr/>
        </p:nvSpPr>
        <p:spPr>
          <a:xfrm>
            <a:off x="1371600" y="1066680"/>
            <a:ext cx="7162920" cy="6129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Purpose of the Assessmen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To gather information about what students already know and what they need to know about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I want to learn from my student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ant to find out what they already know about the Unit Questions and what they know about information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I have tried to promote higher-order thinkin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ask students to find relationships and draw conclusions about various informational resourc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How the assessment information helps me and my students plan for upcoming activities in the uni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f students have misconceptions about  various informational resources, I can provide scaffolds. If students have different levels of understanding about informational resources, I can provide various resources. We will revisit this assessment throughout the unit for students to add their knowledg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ea typeface="Arial"/>
              </a:rPr>
              <a:t>What feedback or additional ideas I’d lik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 would like help on my student activities. I think I need to elicit more higher-order thinking, but I’m not sure how.</a:t>
            </a:r>
            <a:endParaRPr b="0" lang="en-US" sz="1800" spc="-1" strike="noStrike">
              <a:solidFill>
                <a:srgbClr val="000000"/>
              </a:solidFill>
              <a:latin typeface="Arial"/>
            </a:endParaRPr>
          </a:p>
        </p:txBody>
      </p:sp>
      <p:graphicFrame>
        <p:nvGraphicFramePr>
          <p:cNvPr id="385" name="Object 9"/>
          <p:cNvGraphicFramePr/>
          <p:nvPr/>
        </p:nvGraphicFramePr>
        <p:xfrm>
          <a:off x="7696080" y="762120"/>
          <a:ext cx="914400" cy="714240"/>
        </p:xfrm>
        <a:graphic>
          <a:graphicData uri="http://schemas.openxmlformats.org/presentationml/2006/ole">
            <p:oleObj progId="Word.Document.12" r:id="rId2" spid="">
              <p:embed/>
              <p:pic>
                <p:nvPicPr>
                  <p:cNvPr id="386" name="Object 9" descr=""/>
                  <p:cNvPicPr/>
                  <p:nvPr/>
                </p:nvPicPr>
                <p:blipFill>
                  <a:blip r:embed="rId3"/>
                  <a:stretch/>
                </p:blipFill>
                <p:spPr>
                  <a:xfrm>
                    <a:off x="7696080" y="762120"/>
                    <a:ext cx="914400" cy="714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nd ways to get my students more interested in learning about all the various information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earn about different kinds of technology my students and I can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hare ideas with other teachers</a:t>
            </a:r>
            <a:endParaRPr b="0" lang="en-US" sz="2700" spc="-1" strike="noStrike">
              <a:solidFill>
                <a:srgbClr val="000000"/>
              </a:solidFill>
              <a:latin typeface="Lucida Sans Unicode"/>
            </a:endParaRPr>
          </a:p>
        </p:txBody>
      </p:sp>
      <p:pic>
        <p:nvPicPr>
          <p:cNvPr id="388" name="Rectangle 4" descr=""/>
          <p:cNvPicPr/>
          <p:nvPr/>
        </p:nvPicPr>
        <p:blipFill>
          <a:blip r:embed="rId1"/>
          <a:stretch/>
        </p:blipFill>
        <p:spPr>
          <a:xfrm>
            <a:off x="1139760" y="268200"/>
            <a:ext cx="7553520" cy="1158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1371600" y="1905120"/>
            <a:ext cx="723888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learn about all the various informational resourc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o become more independent learners and gain knowledge about what is the best informational resource to use that is available online and in books.</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0" name="Rectangle 2" descr=""/>
          <p:cNvPicPr/>
          <p:nvPr/>
        </p:nvPicPr>
        <p:blipFill>
          <a:blip r:embed="rId1"/>
          <a:stretch/>
        </p:blipFill>
        <p:spPr>
          <a:xfrm>
            <a:off x="1365120" y="530280"/>
            <a:ext cx="7328160" cy="115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Locate additional technology available for student us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reate engaging lessons and activities that targets the needs of diverse 21</a:t>
            </a:r>
            <a:r>
              <a:rPr b="0" lang="en-US" sz="2700" spc="-1" strike="noStrike" baseline="30000">
                <a:solidFill>
                  <a:srgbClr val="000000"/>
                </a:solidFill>
                <a:latin typeface="Lucida Sans Unicode"/>
              </a:rPr>
              <a:t>st</a:t>
            </a:r>
            <a:r>
              <a:rPr b="0" lang="en-US" sz="2700" spc="-1" strike="noStrike">
                <a:solidFill>
                  <a:srgbClr val="000000"/>
                </a:solidFill>
                <a:latin typeface="Lucida Sans Unicode"/>
              </a:rPr>
              <a:t> century learners</a:t>
            </a:r>
            <a:endParaRPr b="0" lang="en-US" sz="2700" spc="-1" strike="noStrike">
              <a:solidFill>
                <a:srgbClr val="000000"/>
              </a:solidFill>
              <a:latin typeface="Lucida Sans Unicode"/>
            </a:endParaRPr>
          </a:p>
        </p:txBody>
      </p:sp>
      <p:pic>
        <p:nvPicPr>
          <p:cNvPr id="392" name="Title 2" descr=""/>
          <p:cNvPicPr/>
          <p:nvPr/>
        </p:nvPicPr>
        <p:blipFill>
          <a:blip r:embed="rId1"/>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4T16:17:37Z</dcterms:created>
  <dc:creator>cbaker1X</dc:creator>
  <dc:description/>
  <dc:language>en-US</dc:language>
  <cp:lastModifiedBy>default</cp:lastModifiedBy>
  <dcterms:modified xsi:type="dcterms:W3CDTF">2010-06-09T20:23:21Z</dcterms:modified>
  <cp:revision>36</cp:revision>
  <dc:subject/>
  <dc:title>Is it possible to conquer the impossib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ct Phase">
    <vt:lpwstr>Module 2</vt:lpwstr>
  </property>
</Properties>
</file>