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gif" ContentType="image/gif"/>
  <Override PartName="/ppt/media/image16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6.jpeg" ContentType="image/jpeg"/>
  <Override PartName="/ppt/media/image33.jpeg" ContentType="image/jpeg"/>
  <Override PartName="/ppt/media/image5.wmf" ContentType="image/x-wmf"/>
  <Override PartName="/ppt/media/image27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15.png" ContentType="image/png"/>
  <Override PartName="/ppt/media/image12.gif" ContentType="image/gif"/>
  <Override PartName="/ppt/media/image34.jpeg" ContentType="image/jpeg"/>
  <Override PartName="/ppt/media/image38.wmf" ContentType="image/x-wmf"/>
  <Override PartName="/ppt/media/image7.jpeg" ContentType="image/jpeg"/>
  <Override PartName="/ppt/media/image28.jpeg" ContentType="image/jpeg"/>
  <Override PartName="/ppt/media/image37.jpeg" ContentType="image/jpeg"/>
  <Override PartName="/ppt/media/image39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547-9774-4732-8BDD-6C6DC037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0CC-6D6E-49C7-8B95-296ADD0A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F71-1CC6-43B3-B697-411D47F4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2FE-2E8D-4704-A1A2-0793502D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2256-70F2-452F-A879-F11FE5BF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62FF-E47E-4179-BF38-9BA1E881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067E-38B0-4673-A97D-3FAA7CBF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A07C-E01B-4FD9-8951-2DA9B5E7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D4BE-882F-4985-A160-D6910AC2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80800"/>
            <a:ext cx="77724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8BA1-1C43-4E82-9675-2FB8035C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F04C-03C9-4BD0-AE7D-32022FA4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BCB-E71D-4043-828B-E4589ADC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718D-64B7-4D99-BB1F-722BF3D9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62A6-1781-44EA-9E1F-EE1C62D1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4F64-9E23-4BE5-B042-9F3447BE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6F1B-F900-4515-9FE1-90C5576F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8DA0-ECD5-4ECA-888F-B95BD30D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6FF-15A9-40B5-9BF9-95729327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86F-1262-4B64-89BB-43589509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A75-F605-4931-95B2-50187E11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0800"/>
            <a:ext cx="77724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67F-F331-44D8-B7E4-2659E82E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D48-568E-49D1-83A7-F2E131C1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9BE-D9FC-46E1-8E3F-24787F68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B0C-9707-40DA-9FF9-3DD775F0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db9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adb9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1580-12C5-4D66-970A-0C2330B4B157}" type="slidenum"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1" descr="sunrise-title"/>
          <p:cNvPicPr/>
          <p:nvPr/>
        </p:nvPicPr>
        <p:blipFill>
          <a:blip r:embed="rId3"/>
          <a:stretch/>
        </p:blipFill>
        <p:spPr>
          <a:xfrm>
            <a:off x="1447920" y="1371600"/>
            <a:ext cx="6248160" cy="388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db9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adb9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D799-29F2-421C-9955-99BE3A9C12C2}" type="slidenum"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hyperlink" Target="http://www.enchantedlearning.com/language/english/label/daysky/answers.shtml" TargetMode="External"/><Relationship Id="rId5" Type="http://schemas.openxmlformats.org/officeDocument/2006/relationships/image" Target="../media/image14.gif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175212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adb9c0"/>
                </a:solidFill>
                <a:latin typeface="Arial"/>
              </a:rPr>
              <a:t>Earth’s Weather</a:t>
            </a:r>
            <a:endParaRPr b="0" lang="en-US" sz="73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58608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b9c0"/>
                </a:solidFill>
                <a:latin typeface="Arial"/>
              </a:rPr>
              <a:t>by Denise Carroll</a:t>
            </a:r>
            <a:endParaRPr b="0" lang="en-US" sz="36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Measuring Weather Condition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31" name="Picture 5" descr="Wood_Thermometer"/>
          <p:cNvPicPr/>
          <p:nvPr/>
        </p:nvPicPr>
        <p:blipFill>
          <a:blip r:embed="rId1"/>
          <a:stretch/>
        </p:blipFill>
        <p:spPr>
          <a:xfrm>
            <a:off x="1523880" y="22860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Tru-Check Direct Reading Rain Gauge"/>
          <p:cNvPicPr/>
          <p:nvPr/>
        </p:nvPicPr>
        <p:blipFill>
          <a:blip r:embed="rId2"/>
          <a:stretch/>
        </p:blipFill>
        <p:spPr>
          <a:xfrm>
            <a:off x="6934320" y="1981080"/>
            <a:ext cx="13446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anemometer"/>
          <p:cNvPicPr/>
          <p:nvPr/>
        </p:nvPicPr>
        <p:blipFill>
          <a:blip r:embed="rId3"/>
          <a:srcRect l="0" t="0" r="11116" b="19449"/>
          <a:stretch/>
        </p:blipFill>
        <p:spPr>
          <a:xfrm>
            <a:off x="7010280" y="4800600"/>
            <a:ext cx="1451160" cy="1752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windcld"/>
          <p:cNvPicPr/>
          <p:nvPr/>
        </p:nvPicPr>
        <p:blipFill>
          <a:blip r:embed="rId4"/>
          <a:stretch/>
        </p:blipFill>
        <p:spPr>
          <a:xfrm>
            <a:off x="3809880" y="5486400"/>
            <a:ext cx="1486080" cy="1057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0"/>
          <p:cNvSpPr/>
          <p:nvPr/>
        </p:nvSpPr>
        <p:spPr>
          <a:xfrm>
            <a:off x="228600" y="114300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thermometer 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measures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temperatur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, or how hot or cold the air 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4952880" y="3886200"/>
            <a:ext cx="327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n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anemometer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measures how fast the wind is </a:t>
            </a:r>
            <a:br>
              <a:rPr sz="2200"/>
            </a:b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blowin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4724280" y="1143000"/>
            <a:ext cx="3886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rain gaug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measures how much rain or snow has fall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152280" y="3962520"/>
            <a:ext cx="3886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wind van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shows which direction the wind is blowing. It points to the direction the wind is coming fro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6" descr=""/>
          <p:cNvPicPr/>
          <p:nvPr/>
        </p:nvPicPr>
        <p:blipFill>
          <a:blip r:embed="rId5"/>
          <a:stretch/>
        </p:blipFill>
        <p:spPr>
          <a:xfrm>
            <a:off x="2514600" y="5334120"/>
            <a:ext cx="123336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8f8f8"/>
                </a:solidFill>
                <a:uFillTx/>
                <a:latin typeface="Arial"/>
              </a:rPr>
              <a:t>Think:</a:t>
            </a:r>
            <a:br>
              <a:rPr sz="6000"/>
            </a:br>
            <a:r>
              <a:rPr b="1" lang="en-US" sz="4400" spc="-1" strike="noStrike">
                <a:solidFill>
                  <a:srgbClr val="adb9c0"/>
                </a:solidFill>
                <a:latin typeface="Arial"/>
              </a:rPr>
              <a:t>Why do we need to know the weather conditions each day?</a:t>
            </a: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41" name="Picture 4" descr="MCj03980170000[1]"/>
          <p:cNvPicPr/>
          <p:nvPr/>
        </p:nvPicPr>
        <p:blipFill>
          <a:blip r:embed="rId1"/>
          <a:stretch/>
        </p:blipFill>
        <p:spPr>
          <a:xfrm>
            <a:off x="6705720" y="4419720"/>
            <a:ext cx="1670040" cy="1676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MCj04040030000[1]"/>
          <p:cNvPicPr/>
          <p:nvPr/>
        </p:nvPicPr>
        <p:blipFill>
          <a:blip r:embed="rId2"/>
          <a:stretch/>
        </p:blipFill>
        <p:spPr>
          <a:xfrm>
            <a:off x="838080" y="4419720"/>
            <a:ext cx="16779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Measuring weather conditions helps people.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People will know how to dress when they go outsid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People can plan outdoor activities or vacation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cientists can tell people to get ready for bad weather or a big storm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easuring the weather conditions help scientists predict the weath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Cloud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24080" y="4038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umul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irr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Strat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04920" y="1447920"/>
            <a:ext cx="8534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Clouds are made up of millions and millions of small water drops or tiny pieces of ic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Clouds give us clues about how the weather may chang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We will learn about these three types of cloud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umul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343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Cumulus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means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heap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.  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These clouds look big and puffy like balls of cotton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hen these clouds start piling up and turn dark, they can bring a storm.</a:t>
            </a: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0" name="Picture 5" descr="cumulus"/>
          <p:cNvPicPr/>
          <p:nvPr/>
        </p:nvPicPr>
        <p:blipFill>
          <a:blip r:embed="rId1"/>
          <a:srcRect l="0" t="0" r="0" b="20000"/>
          <a:stretch/>
        </p:blipFill>
        <p:spPr>
          <a:xfrm>
            <a:off x="5562720" y="1600200"/>
            <a:ext cx="298116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cumulus_clouds_5_jpg"/>
          <p:cNvPicPr/>
          <p:nvPr/>
        </p:nvPicPr>
        <p:blipFill>
          <a:blip r:embed="rId2"/>
          <a:stretch/>
        </p:blipFill>
        <p:spPr>
          <a:xfrm>
            <a:off x="5638680" y="4038480"/>
            <a:ext cx="2857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irr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3" name="Picture 5" descr="21_cirrus_streaks_cstbgt"/>
          <p:cNvPicPr/>
          <p:nvPr/>
        </p:nvPicPr>
        <p:blipFill>
          <a:blip r:embed="rId1"/>
          <a:stretch/>
        </p:blipFill>
        <p:spPr>
          <a:xfrm>
            <a:off x="5715000" y="1447920"/>
            <a:ext cx="2819520" cy="1888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irrus-clouds"/>
          <p:cNvPicPr/>
          <p:nvPr/>
        </p:nvPicPr>
        <p:blipFill>
          <a:blip r:embed="rId2"/>
          <a:stretch/>
        </p:blipFill>
        <p:spPr>
          <a:xfrm>
            <a:off x="5638680" y="4114800"/>
            <a:ext cx="2900520" cy="2176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Cirrus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eans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curl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.  These clouds are very high up in the sky. 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y look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thin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feathery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and hold only a little bit of wat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 see these clouds when the weather is sunny.</a:t>
            </a: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Strat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Stratus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 means </a:t>
            </a:r>
            <a:r>
              <a:rPr b="1" i="1" lang="en-US" sz="2800" spc="-1" strike="noStrike">
                <a:solidFill>
                  <a:srgbClr val="adb9c0"/>
                </a:solidFill>
                <a:latin typeface="Arial"/>
              </a:rPr>
              <a:t>stretched out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.  These clouds make the whole sky look dark and gray because they cover the sky and block the sun.</a:t>
            </a:r>
            <a:r>
              <a:rPr b="0" lang="en-US" sz="28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Stratus are low, gray clouds that usually bring rain or snow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8" name="Picture 5" descr="stratus1"/>
          <p:cNvPicPr/>
          <p:nvPr/>
        </p:nvPicPr>
        <p:blipFill>
          <a:blip r:embed="rId1"/>
          <a:srcRect l="0" t="0" r="20758" b="0"/>
          <a:stretch/>
        </p:blipFill>
        <p:spPr>
          <a:xfrm>
            <a:off x="5334120" y="1066680"/>
            <a:ext cx="3200400" cy="2686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stratus"/>
          <p:cNvPicPr/>
          <p:nvPr/>
        </p:nvPicPr>
        <p:blipFill>
          <a:blip r:embed="rId2"/>
          <a:srcRect l="0" t="0" r="0" b="10815"/>
          <a:stretch/>
        </p:blipFill>
        <p:spPr>
          <a:xfrm>
            <a:off x="5105520" y="4191120"/>
            <a:ext cx="3457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Preparing for Weather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Always listen to the radio and television for weather bulletins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tock a good supply of food that does not have to be cooked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tore plenty of fresh water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Make sure you have flashlights and extra batteries, candles are not saf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Be sure your pets are saf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ecure loose objects outside your hom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Always be calm and patient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2" name="Picture 5" descr="MCj03980170000[1]"/>
          <p:cNvPicPr/>
          <p:nvPr/>
        </p:nvPicPr>
        <p:blipFill>
          <a:blip r:embed="rId1"/>
          <a:stretch/>
        </p:blipFill>
        <p:spPr>
          <a:xfrm>
            <a:off x="7924680" y="5715000"/>
            <a:ext cx="8622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Thunderstorm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A thunderstorm has rain, </a:t>
            </a:r>
            <a:br>
              <a:rPr sz="2400"/>
            </a:b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thunder, and lightning.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hen we see big, thick,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dark cumulus clouds,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e might expect thunder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and lightning to come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Lightning produces light and heat  - called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energy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hen the air is heated that quickly, it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expands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(gets bigger) and then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contracts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(gets smaller).  When the air expands and contracts, it creates an explosion called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THUNDER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Lightning safety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–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Stay indoors away from doors and windows. Do not use the telephone. Take off head sets. 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Turn off, unplug, and stay away from appliances, computers, power tools, &amp; TV sets.</a:t>
            </a:r>
            <a:r>
              <a:rPr b="1" lang="en-US" sz="18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5" name="Picture 5" descr="Go to fullsize image"/>
          <p:cNvPicPr/>
          <p:nvPr/>
        </p:nvPicPr>
        <p:blipFill>
          <a:blip r:embed="rId1"/>
          <a:stretch/>
        </p:blipFill>
        <p:spPr>
          <a:xfrm>
            <a:off x="5410080" y="1295280"/>
            <a:ext cx="2781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Tornado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952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A </a:t>
            </a:r>
            <a:r>
              <a:rPr b="1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tornado</a:t>
            </a: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 is a funnel-shaped cloud that spins very fast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has very strong winds that can destroy many houses and building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picks up debris or buildings by its swirling wind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Tornado safety</a:t>
            </a: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 – Stay inside away from windows, doors and outside walls. Cover your head and body to protect yourself from flying objects.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8" name="Picture 5" descr="neal-tornado-4"/>
          <p:cNvPicPr/>
          <p:nvPr/>
        </p:nvPicPr>
        <p:blipFill>
          <a:blip r:embed="rId1"/>
          <a:stretch/>
        </p:blipFill>
        <p:spPr>
          <a:xfrm>
            <a:off x="5257800" y="1981080"/>
            <a:ext cx="337644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adb9c0"/>
                </a:solidFill>
                <a:uFillTx/>
                <a:latin typeface="Arial"/>
              </a:rPr>
              <a:t>Changes in Weather</a:t>
            </a:r>
            <a:endParaRPr b="0" lang="en-US" sz="6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Weather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is what the air is like outsid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be warm or cool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be sunny, windy, or cloud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change quickl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re are four seasons during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88" name="Picture 5" descr="MCj04040150000[1]"/>
          <p:cNvPicPr/>
          <p:nvPr/>
        </p:nvPicPr>
        <p:blipFill>
          <a:blip r:embed="rId1"/>
          <a:stretch/>
        </p:blipFill>
        <p:spPr>
          <a:xfrm>
            <a:off x="533520" y="4572000"/>
            <a:ext cx="1449360" cy="14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Cj02321800000[1]"/>
          <p:cNvPicPr/>
          <p:nvPr/>
        </p:nvPicPr>
        <p:blipFill>
          <a:blip r:embed="rId2"/>
          <a:stretch/>
        </p:blipFill>
        <p:spPr>
          <a:xfrm>
            <a:off x="3581280" y="4876920"/>
            <a:ext cx="1874880" cy="1782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7162920" y="4495680"/>
            <a:ext cx="17431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Hurricane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hurricane</a:t>
            </a: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 begins over warm ocean waters and has winds that are more than 74 mph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It has strong winds, high ocean waves, and lots of rain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causes floods and destroys many homes and building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The hurricane season begins June 1 and ends November 30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Stay indoors, in the center of your home, in a closet or bathroom without windows.</a:t>
            </a:r>
            <a:r>
              <a:rPr b="0" lang="en-US" sz="26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1" name="Picture 5" descr="hurricane"/>
          <p:cNvPicPr/>
          <p:nvPr/>
        </p:nvPicPr>
        <p:blipFill>
          <a:blip r:embed="rId1"/>
          <a:stretch/>
        </p:blipFill>
        <p:spPr>
          <a:xfrm>
            <a:off x="5486400" y="1295280"/>
            <a:ext cx="3086280" cy="2468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IVAN-hurricane-Satellite-5amSept16-2004"/>
          <p:cNvPicPr/>
          <p:nvPr/>
        </p:nvPicPr>
        <p:blipFill>
          <a:blip r:embed="rId2"/>
          <a:srcRect l="0" t="3368" r="0" b="0"/>
          <a:stretch/>
        </p:blipFill>
        <p:spPr>
          <a:xfrm>
            <a:off x="5257800" y="4038480"/>
            <a:ext cx="35053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Blizzard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blizzard</a:t>
            </a: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 is a storm with heavy snow and strong winds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It is difficult to see outside during a blizzard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Blizzard Safety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: Stay indoors. If you go outside after the storm, wear layers of clothing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5" name="Picture 5" descr="Pilcher  Blizzard Mar 2003"/>
          <p:cNvPicPr/>
          <p:nvPr/>
        </p:nvPicPr>
        <p:blipFill>
          <a:blip r:embed="rId1"/>
          <a:stretch/>
        </p:blipFill>
        <p:spPr>
          <a:xfrm>
            <a:off x="4876920" y="2362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ongratulation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You have learned about the four seasons, the water cycle, three types of clouds, storms, and how to be prepared for weather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You’re an expert weather watcher!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REMEMBER TO ALWAYS BE SAFE!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8" name="Picture 7" descr="MCj02805960000[1]"/>
          <p:cNvPicPr/>
          <p:nvPr/>
        </p:nvPicPr>
        <p:blipFill>
          <a:blip r:embed="rId1"/>
          <a:stretch/>
        </p:blipFill>
        <p:spPr>
          <a:xfrm>
            <a:off x="609480" y="4648320"/>
            <a:ext cx="1979640" cy="1574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MCj02808300000[1]"/>
          <p:cNvPicPr/>
          <p:nvPr/>
        </p:nvPicPr>
        <p:blipFill>
          <a:blip r:embed="rId2"/>
          <a:stretch/>
        </p:blipFill>
        <p:spPr>
          <a:xfrm>
            <a:off x="6629400" y="4648320"/>
            <a:ext cx="19335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116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db9c0"/>
                </a:solidFill>
                <a:latin typeface="Arial"/>
              </a:rPr>
              <a:t>Resources</a:t>
            </a:r>
            <a:endParaRPr b="0" lang="en-US" sz="5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2b2b2"/>
                </a:solidFill>
                <a:latin typeface="Arial"/>
              </a:rPr>
              <a:t>http://images.search.yahoo.com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2b2b2"/>
                </a:solidFill>
                <a:latin typeface="Arial"/>
              </a:rPr>
              <a:t>http://office.microsoft.com/clipart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2b2b2"/>
                </a:solidFill>
                <a:latin typeface="Arial"/>
              </a:rPr>
              <a:t>http://soniacoleman.org/Tutorials/PowerPointTemplates/templates1.htm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is warm, windy, and rain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rees begin to grow new leaves and flower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arm air and rain helps plants grow new leaves and flower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80880" y="137160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1. Spring begins in March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spring_trees"/>
          <p:cNvPicPr/>
          <p:nvPr/>
        </p:nvPicPr>
        <p:blipFill>
          <a:blip r:embed="rId1"/>
          <a:stretch/>
        </p:blipFill>
        <p:spPr>
          <a:xfrm>
            <a:off x="5715000" y="2666880"/>
            <a:ext cx="2895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213336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days are hot and sunn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is is the warmest time of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Leaves are green on tree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torms can make the weather change quickl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8600" y="137160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2. Summer begins in Jun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tn_summer_oak"/>
          <p:cNvPicPr/>
          <p:nvPr/>
        </p:nvPicPr>
        <p:blipFill>
          <a:blip r:embed="rId1"/>
          <a:stretch/>
        </p:blipFill>
        <p:spPr>
          <a:xfrm>
            <a:off x="6324480" y="2514600"/>
            <a:ext cx="2116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487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begins to get cool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leaves of some trees change colors and drop off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ome plants di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28600" y="14479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db9c0"/>
                </a:solidFill>
                <a:latin typeface="Arial"/>
              </a:rPr>
              <a:t>3. Fall or Autumn begins in September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trees_autumn029"/>
          <p:cNvPicPr/>
          <p:nvPr/>
        </p:nvPicPr>
        <p:blipFill>
          <a:blip r:embed="rId1"/>
          <a:stretch/>
        </p:blipFill>
        <p:spPr>
          <a:xfrm>
            <a:off x="5715000" y="2895480"/>
            <a:ext cx="2971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228600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is cold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ome places have snow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inter is the coldest time of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any trees have lost their leave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80880" y="152388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4. Winter begins in December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12-15-winter-trees"/>
          <p:cNvPicPr/>
          <p:nvPr/>
        </p:nvPicPr>
        <p:blipFill>
          <a:blip r:embed="rId1"/>
          <a:stretch/>
        </p:blipFill>
        <p:spPr>
          <a:xfrm>
            <a:off x="5638680" y="2590920"/>
            <a:ext cx="32958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adb9c0"/>
                </a:solidFill>
                <a:uFillTx/>
                <a:latin typeface="Arial"/>
              </a:rPr>
              <a:t>The Water Cycle</a:t>
            </a:r>
            <a:endParaRPr b="0" lang="en-US" sz="5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water cycle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is the way 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water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moves from the air to land and back again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09" name="Picture 5" descr="water_1"/>
          <p:cNvPicPr/>
          <p:nvPr/>
        </p:nvPicPr>
        <p:blipFill>
          <a:blip r:embed="rId1"/>
          <a:stretch/>
        </p:blipFill>
        <p:spPr>
          <a:xfrm>
            <a:off x="1447920" y="2209680"/>
            <a:ext cx="6457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3657600"/>
            <a:ext cx="3276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n’s heat makes water evaporate into</a:t>
            </a:r>
            <a:r>
              <a:rPr b="1" lang="en-US" sz="2000" spc="-1" strike="noStrike">
                <a:solidFill>
                  <a:srgbClr val="adb9c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water vapor</a:t>
            </a:r>
            <a:r>
              <a:rPr b="1" lang="en-US" sz="2000" spc="-1" strike="noStrike">
                <a:solidFill>
                  <a:srgbClr val="adb9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80880" y="609480"/>
            <a:ext cx="5791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ater vapor rises into the air, cools, and condenses into tiny droplets of wa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rops of water come together to form clou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172200" y="3048120"/>
            <a:ext cx="2971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ater drops become heavy and fall as </a:t>
            </a: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rain, sleet, snow, or hai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505320" y="556272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in falls or snow melts and flows to rivers, lakes, and ocea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00800" y="2666880"/>
            <a:ext cx="198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Precip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2286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Conden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80880" y="281952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Evaporation is when a liquid changes to a g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evaporation"/>
          <p:cNvPicPr/>
          <p:nvPr/>
        </p:nvPicPr>
        <p:blipFill>
          <a:blip r:embed="rId1"/>
          <a:stretch/>
        </p:blipFill>
        <p:spPr>
          <a:xfrm>
            <a:off x="3962520" y="2133720"/>
            <a:ext cx="1925640" cy="266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evaporation%20image"/>
          <p:cNvPicPr/>
          <p:nvPr/>
        </p:nvPicPr>
        <p:blipFill>
          <a:blip r:embed="rId2"/>
          <a:stretch/>
        </p:blipFill>
        <p:spPr>
          <a:xfrm>
            <a:off x="457200" y="4724280"/>
            <a:ext cx="2438280" cy="1640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0" descr="Cloud reflection"/>
          <p:cNvPicPr/>
          <p:nvPr/>
        </p:nvPicPr>
        <p:blipFill>
          <a:blip r:embed="rId3"/>
          <a:srcRect l="0" t="0" r="20598" b="37534"/>
          <a:stretch/>
        </p:blipFill>
        <p:spPr>
          <a:xfrm>
            <a:off x="6172200" y="380880"/>
            <a:ext cx="2133720" cy="13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2" descr="Rai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4343400"/>
            <a:ext cx="90180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5" descr="BD21298_"/>
          <p:cNvPicPr/>
          <p:nvPr/>
        </p:nvPicPr>
        <p:blipFill>
          <a:blip r:embed="rId6"/>
          <a:stretch/>
        </p:blipFill>
        <p:spPr>
          <a:xfrm>
            <a:off x="1600200" y="1905120"/>
            <a:ext cx="657360" cy="657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6" descr="BD21298_"/>
          <p:cNvPicPr/>
          <p:nvPr/>
        </p:nvPicPr>
        <p:blipFill>
          <a:blip r:embed="rId7"/>
          <a:stretch/>
        </p:blipFill>
        <p:spPr>
          <a:xfrm rot="13405200">
            <a:off x="7467480" y="5562360"/>
            <a:ext cx="657360" cy="657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7" descr="BD21298_"/>
          <p:cNvPicPr/>
          <p:nvPr/>
        </p:nvPicPr>
        <p:blipFill>
          <a:blip r:embed="rId8"/>
          <a:stretch/>
        </p:blipFill>
        <p:spPr>
          <a:xfrm rot="1942800">
            <a:off x="3047760" y="5105160"/>
            <a:ext cx="657000" cy="65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8" descr="BD21298_"/>
          <p:cNvPicPr/>
          <p:nvPr/>
        </p:nvPicPr>
        <p:blipFill>
          <a:blip r:embed="rId9"/>
          <a:stretch/>
        </p:blipFill>
        <p:spPr>
          <a:xfrm>
            <a:off x="7086600" y="1905120"/>
            <a:ext cx="657360" cy="657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0"/>
          <p:cNvSpPr/>
          <p:nvPr/>
        </p:nvSpPr>
        <p:spPr>
          <a:xfrm>
            <a:off x="3581280" y="21337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ater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1" descr="MCj03314530000[1]"/>
          <p:cNvPicPr/>
          <p:nvPr/>
        </p:nvPicPr>
        <p:blipFill>
          <a:blip r:embed="rId10"/>
          <a:stretch/>
        </p:blipFill>
        <p:spPr>
          <a:xfrm>
            <a:off x="8305920" y="4038480"/>
            <a:ext cx="660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Meteorologist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Meteorologists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are scientists who use special tools to measure, predict, and study weather condition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29" name="Picture 5" descr="2567801_200X150"/>
          <p:cNvPicPr/>
          <p:nvPr/>
        </p:nvPicPr>
        <p:blipFill>
          <a:blip r:embed="rId1"/>
          <a:stretch/>
        </p:blipFill>
        <p:spPr>
          <a:xfrm>
            <a:off x="2666880" y="3505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6:03:53Z</dcterms:created>
  <dc:creator> Denise Carroll</dc:creator>
  <dc:description/>
  <dc:language>en-US</dc:language>
  <cp:lastModifiedBy>default</cp:lastModifiedBy>
  <dcterms:modified xsi:type="dcterms:W3CDTF">2010-06-09T00:24:03Z</dcterms:modified>
  <cp:revision>126</cp:revision>
  <dc:subject/>
  <dc:title>Title</dc:title>
</cp:coreProperties>
</file>