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99C3-6541-4864-B897-70974A784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723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47920" y="3964320"/>
            <a:ext cx="723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1CEF-1474-46D1-AA23-91CDA5E93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4792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5736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6435-DD22-46F6-B84B-DE7EECD2D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95560" y="160020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43200" y="160020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47920" y="396432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95560" y="396432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43200" y="396432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36C3-25A9-4FE9-A1AE-961E0CA41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7F6AF-B588-4461-A8EC-8168FF3E8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5E767-DAC4-426E-AB3A-2201F321C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B9D57-8674-4594-9C92-E9ECF7809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68C13-CF23-45A1-96CB-309F88876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EC3CC-AF0A-4046-ADEE-844166D2E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371600" y="2743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CA5AD-71E1-4EE2-AEA7-7CD85EBE7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44792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DF20A-4FBA-44BE-9675-36BF2625D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ABA5-85C3-46FC-A71B-75F5A3230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5736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E2BCF-A7B4-4DD6-B9D9-220101F87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447920" y="3964320"/>
            <a:ext cx="723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DCFCA-4851-4522-8FF0-851834661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723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447920" y="3964320"/>
            <a:ext cx="723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24D5E-A15B-4F8D-918C-701AC838A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44792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5736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E497E-587A-4654-BEF4-40451EEB6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95560" y="160020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343200" y="160020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447920" y="396432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895560" y="396432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343200" y="396432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9D4C6-E059-4B4F-BFEF-41FF6787E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DF97-82AE-4757-88CC-17ACABDB1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D7BD-725B-4939-B7CB-81CC9898F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E51A-AC33-4362-A104-BBE431FC8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600" y="2743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DABB-DA12-4B37-B543-F80BECD2D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4792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2B547-64AC-40EC-83F6-031819100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5736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87B6-2BAB-4151-B998-904A693AB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47920" y="3964320"/>
            <a:ext cx="723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733B-CEB9-4ADD-B2DE-795FDA2AA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61e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1" marL="735480" indent="-282960">
              <a:spcBef>
                <a:spcPts val="799"/>
              </a:spcBef>
              <a:buClr>
                <a:srgbClr val="4f261e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2" marL="1131480" indent="-226080">
              <a:spcBef>
                <a:spcPts val="799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3" marL="1584000" indent="-226080">
              <a:spcBef>
                <a:spcPts val="799"/>
              </a:spcBef>
              <a:buClr>
                <a:srgbClr val="4f261e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4" marL="2036520" indent="-226080">
              <a:spcBef>
                <a:spcPts val="799"/>
              </a:spcBef>
              <a:buClr>
                <a:srgbClr val="4f261e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447560" y="6244920"/>
            <a:ext cx="19047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0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f261e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DCCBB-3F2E-4952-BF55-D59D52A8B4DB}" type="slidenum">
              <a:rPr b="0" lang="en-US" sz="1200" spc="-1" strike="noStrike">
                <a:solidFill>
                  <a:srgbClr val="4f261e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61e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1" marL="735480" indent="-282960">
              <a:spcBef>
                <a:spcPts val="799"/>
              </a:spcBef>
              <a:buClr>
                <a:srgbClr val="4f261e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2" marL="1131480" indent="-226080">
              <a:spcBef>
                <a:spcPts val="799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3" marL="1584000" indent="-226080">
              <a:spcBef>
                <a:spcPts val="799"/>
              </a:spcBef>
              <a:buClr>
                <a:srgbClr val="4f261e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4" marL="2036520" indent="-226080">
              <a:spcBef>
                <a:spcPts val="799"/>
              </a:spcBef>
              <a:buClr>
                <a:srgbClr val="4f261e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1447560" y="6244920"/>
            <a:ext cx="19047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50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f261e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16B00-D8B0-434E-A4A5-21EC560FA084}" type="slidenum">
              <a:rPr b="0" lang="en-US" sz="1200" spc="-1" strike="noStrike">
                <a:solidFill>
                  <a:srgbClr val="4f261e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371240" y="1142640"/>
            <a:ext cx="746748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f261e"/>
                </a:solidFill>
                <a:latin typeface="Garamond"/>
              </a:rPr>
              <a:t>Let’s Write A Story!</a:t>
            </a:r>
            <a:endParaRPr b="0" lang="en-US" sz="48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752480" y="3428640"/>
            <a:ext cx="64008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Unit Portfolio Presentation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f261e"/>
                </a:solidFill>
                <a:latin typeface="Garamond"/>
              </a:rPr>
              <a:t>Laurie Hutchison</a:t>
            </a: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61e"/>
                </a:solidFill>
                <a:latin typeface="Garamond"/>
              </a:rPr>
              <a:t>Unit Summary</a:t>
            </a: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3746520" y="1219320"/>
            <a:ext cx="280188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9"/>
          <p:cNvSpPr/>
          <p:nvPr/>
        </p:nvSpPr>
        <p:spPr>
          <a:xfrm>
            <a:off x="6566040" y="1219320"/>
            <a:ext cx="266688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99840" y="1447560"/>
            <a:ext cx="71629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261e"/>
                </a:solidFill>
                <a:latin typeface="Garamond"/>
              </a:rPr>
              <a:t>Writing is a necessary skill, used frequently in life. When students are taught to write correctly in an early grade, this benefits their entire school career. Primary students need to have a solid foundation in writing skills. By the end of this unit of study, students will be able to write a narrative that includes a main idea, a character, and a sequence of events. They will demonstrate and apply capitalization, punctuation, and sentence building. This will be accomplished in a 9-week timeline.</a:t>
            </a:r>
            <a:endParaRPr b="0" lang="en-US" sz="2800" spc="-1" strike="noStrike">
              <a:solidFill>
                <a:srgbClr val="4f261e"/>
              </a:solidFill>
              <a:latin typeface="Garamon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61e"/>
                </a:solidFill>
                <a:latin typeface="Garamond"/>
              </a:rPr>
              <a:t>Curriculum-Framing Questions</a:t>
            </a: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261e"/>
                </a:solidFill>
                <a:latin typeface="Garamond"/>
              </a:rPr>
              <a:t>Essential Question </a:t>
            </a:r>
            <a:br>
              <a:rPr sz="2800"/>
            </a:br>
            <a:r>
              <a:rPr b="0" lang="en-US" sz="2400" spc="-1" strike="noStrike">
                <a:solidFill>
                  <a:srgbClr val="4f261e"/>
                </a:solidFill>
                <a:latin typeface="Garamond"/>
              </a:rPr>
              <a:t>How did it happen?</a:t>
            </a:r>
            <a:endParaRPr b="0" lang="en-US" sz="2400" spc="-1" strike="noStrike">
              <a:solidFill>
                <a:srgbClr val="4f261e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261e"/>
                </a:solidFill>
                <a:latin typeface="Garamond"/>
              </a:rPr>
              <a:t>Unit Questions</a:t>
            </a:r>
            <a:br>
              <a:rPr sz="2800"/>
            </a:br>
            <a:r>
              <a:rPr b="0" lang="en-US" sz="2400" spc="-1" strike="noStrike">
                <a:solidFill>
                  <a:srgbClr val="4f261e"/>
                </a:solidFill>
                <a:latin typeface="Garamond"/>
              </a:rPr>
              <a:t>How do you become a writer?</a:t>
            </a:r>
            <a:endParaRPr b="0" lang="en-US" sz="2400" spc="-1" strike="noStrike">
              <a:solidFill>
                <a:srgbClr val="4f261e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261e"/>
                </a:solidFill>
                <a:latin typeface="Garamond"/>
              </a:rPr>
              <a:t>Content Questions</a:t>
            </a:r>
            <a:br>
              <a:rPr sz="2800"/>
            </a:br>
            <a:r>
              <a:rPr b="0" lang="en-US" sz="2400" spc="-1" strike="noStrike">
                <a:solidFill>
                  <a:srgbClr val="4f261e"/>
                </a:solidFill>
                <a:latin typeface="Garamond"/>
              </a:rPr>
              <a:t>What is a main idea?</a:t>
            </a:r>
            <a:endParaRPr b="0" lang="en-US" sz="2400" spc="-1" strike="noStrike">
              <a:solidFill>
                <a:srgbClr val="4f261e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f261e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4f261e"/>
                </a:solidFill>
                <a:latin typeface="Garamond"/>
              </a:rPr>
              <a:t>What is a character?</a:t>
            </a:r>
            <a:endParaRPr b="0" lang="en-US" sz="2400" spc="-1" strike="noStrike">
              <a:solidFill>
                <a:srgbClr val="4f261e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f261e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4f261e"/>
                </a:solidFill>
                <a:latin typeface="Garamond"/>
              </a:rPr>
              <a:t>How can I put my sentences in order?</a:t>
            </a:r>
            <a:endParaRPr b="0" lang="en-US" sz="2400" spc="-1" strike="noStrike">
              <a:solidFill>
                <a:srgbClr val="4f261e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f261e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4f261e"/>
                </a:solidFill>
                <a:latin typeface="Garamond"/>
              </a:rPr>
              <a:t>How do you write a sentence using a capital and a period? </a:t>
            </a:r>
            <a:endParaRPr b="0" lang="en-US" sz="2400" spc="-1" strike="noStrike">
              <a:solidFill>
                <a:srgbClr val="4f261e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447920" y="1599840"/>
            <a:ext cx="72388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This project will help my students develop 21</a:t>
            </a:r>
            <a:r>
              <a:rPr b="0" lang="en-US" sz="3200" spc="-1" strike="noStrike" baseline="30000">
                <a:solidFill>
                  <a:srgbClr val="4f261e"/>
                </a:solidFill>
                <a:latin typeface="Garamond"/>
              </a:rPr>
              <a:t>st</a:t>
            </a: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 century skills by: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61e"/>
                </a:solidFill>
                <a:latin typeface="Garamond"/>
              </a:rPr>
              <a:t>Let’s Write a Story!</a:t>
            </a: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1371600" y="2369520"/>
            <a:ext cx="74674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  <a:ea typeface="Times New Roman"/>
              </a:rPr>
              <a:t>Work appropriately and productively with ot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  <a:ea typeface="Times New Roman"/>
              </a:rPr>
              <a:t>Monitor their own understanding and learning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  <a:ea typeface="Times New Roman"/>
              </a:rPr>
              <a:t>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  <a:ea typeface="Times New Roman"/>
              </a:rPr>
              <a:t>Deliver quality work on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  <a:ea typeface="Times New Roman"/>
              </a:rPr>
              <a:t>Demonstrate positive group work eth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  <a:ea typeface="Times New Roman"/>
              </a:rPr>
              <a:t>Act responsibly within their group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261e"/>
                </a:solidFill>
                <a:latin typeface="Garamond"/>
              </a:rPr>
              <a:t>Gauging Student Needs Assessment</a:t>
            </a:r>
            <a:endParaRPr b="0" lang="en-US" sz="36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1371600" y="1295280"/>
            <a:ext cx="71629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  <a:ea typeface="Arial"/>
              </a:rPr>
              <a:t>Purpose of the Assess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  <a:ea typeface="Arial"/>
              </a:rPr>
              <a:t>To gather information about what students already know about writing a sentence, putting in punctuation and capitalization, sequencing, main ideas, and charact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  <a:ea typeface="Arial"/>
              </a:rPr>
              <a:t>What do I want to learn from my student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  <a:ea typeface="Arial"/>
              </a:rPr>
              <a:t>I want to find out what they already know about the Unit Questions and what they know about writing skil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  <a:ea typeface="Arial"/>
              </a:rPr>
              <a:t>How have I tried to promote higher-order thinking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  <a:ea typeface="Arial"/>
              </a:rPr>
              <a:t>I am asking students to create their own topic, characters, and organize them into a narrativ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  <a:ea typeface="Arial"/>
              </a:rPr>
              <a:t>How does the assessment information help me and my students plan for upcoming activities in the uni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  <a:ea typeface="Arial"/>
              </a:rPr>
              <a:t>If many of the students already know how to write a sentence, I can move that group to the next level of activities. I can also reteach the skills some of the students are struggling with before moving on to a new skill. We will revisit this assessment throughout the unit so the students and I can continue to monitor their progr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Object 9"/>
          <p:cNvGraphicFramePr/>
          <p:nvPr/>
        </p:nvGraphicFramePr>
        <p:xfrm>
          <a:off x="7696080" y="762120"/>
          <a:ext cx="914400" cy="714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8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96080" y="762120"/>
                    <a:ext cx="91440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Find ways to get my students more interested in learning to write stories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Increase my students awareness of writing and publishing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Share ideas with other teachers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61e"/>
                </a:solidFill>
                <a:latin typeface="Garamond"/>
              </a:rPr>
              <a:t>My Goals for the Course</a:t>
            </a: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61e"/>
                </a:solidFill>
                <a:latin typeface="Garamond"/>
              </a:rPr>
              <a:t>Goals for My Students </a:t>
            </a: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1600" y="190512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To learn how to write a story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To become more independent learners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To build self esteem and confidence in their writing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To want to publish and present their finished product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16:17:37Z</dcterms:created>
  <dc:creator>cbaker1X</dc:creator>
  <dc:description/>
  <dc:language>en-US</dc:language>
  <cp:lastModifiedBy>default</cp:lastModifiedBy>
  <dcterms:modified xsi:type="dcterms:W3CDTF">2010-06-08T20:31:17Z</dcterms:modified>
  <cp:revision>54</cp:revision>
  <dc:subject/>
  <dc:title>Is it possible to conquer the impossible?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oject Phase">
    <vt:lpwstr>Module 2</vt:lpwstr>
  </property>
</Properties>
</file>