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E79-2250-4483-BC98-C6D6AF13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591-10AF-402B-BB48-4E09E907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A40-E7BF-4BC7-806D-4493BA45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D7B-90C7-4381-924A-3E3408D3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7F96-72E6-45E2-B9DF-961004A7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7FE7-519A-45A9-AA7C-9CF2CF93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081F-BA04-4D3F-BA3A-1F2B7B82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AE90-75E6-47EB-8770-4557C34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C3E9-761A-47C9-8DF2-2850A043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4E84-BF79-4C61-A722-AAD36836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8B40-47E5-42E3-A674-BC7CE7A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0B7-7D7B-4A52-86B2-86DE763D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8669-826E-4B41-A317-51F8B7AD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674F-088D-4C0D-AF85-48B0D5A1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FA3A-F1CE-4666-B12A-81C04153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4B57-B434-463C-9898-907320B9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FE48-3915-4295-95A9-ED510D91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A23-E684-43EC-B108-0006798E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B08-6B80-4B11-9330-48123B01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2E8-EBC8-4BD5-93F0-136D12E4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1F7-A493-498F-A351-9C18CA8A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9D7-DFB5-42A8-97CE-BD4DB84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73E-55E3-46F5-A07A-28398D68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010-63E8-469D-9E32-B1B1C52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687-8502-48DF-90EE-CF2C1579F827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4D76-7A18-46FB-B0F6-79361692B65D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261e"/>
                </a:solidFill>
                <a:latin typeface="Garamond"/>
              </a:rPr>
              <a:t>Let’s Write A Story!</a:t>
            </a:r>
            <a:endParaRPr b="0" lang="en-US" sz="4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Unit Portfolio Presentation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Laurie Hutchison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Unit Summary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Writing is a necessary skill, used frequently in life. When students are taught to write correctly in an early grade, this benefits their entire school career. Primary students need to have a solid foundation in writing skills. By the end of this unit of study, students will be able to write a narrative that includes a main idea, a character, and a sequence of events. They will demonstrate and apply capitalization, punctuation, and sentence building. This will be accomplished in a 9-week timeline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urriculum-Framing Questions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Essential Question 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id it happen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Unit Questions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o you become a writ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Content Questions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What is a main idea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What is a charact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can I put my sentences in ord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o you write a sentence using a capital and a period?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s project will help my students develop 21</a:t>
            </a:r>
            <a:r>
              <a:rPr b="0" lang="en-US" sz="3200" spc="-1" strike="noStrike" baseline="30000">
                <a:solidFill>
                  <a:srgbClr val="4f261e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century skills by: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Let’s Write a Story!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71600" y="23695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Work appropriately and productively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Monitor their own understanding and learning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eliver quality work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emonstrate positive group work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Act responsibly within their grou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61e"/>
                </a:solidFill>
                <a:latin typeface="Garamond"/>
              </a:rPr>
              <a:t>Gauging Student Needs Assessment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1600" y="1295280"/>
            <a:ext cx="716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urpose of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To gather information about what students already know about writing a sentence, putting in punctuation and capitalization, sequencing, main ideas, and 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hat do I want to learn from my stud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 want to find out what they already know about the Unit Questions and what they know about writing sk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How have I tried to promote higher-order thin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 am asking students to create their own topic, characters, and organize them into a nar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How does the assessment information help me and my students plan for upcoming activities in the un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f many of the students already know how to write a sentence, I can move that group to the next level of activities. I can also reteach the skills some of the students are struggling with before moving on to a new skill. We will revisit this assessment throughout the unit so the students and I can continue to monitor their pro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7696080" y="7621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7621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nd ways to get my students more interested in learning to write storie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Increase my students awareness of writing and publishing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hare ideas with other teacher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My Goals for the Cours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Goals for My Students 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learn how to write a story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become more independent learner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build self esteem and confidence in their writing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want to publish and present their finished produc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default</cp:lastModifiedBy>
  <dcterms:modified xsi:type="dcterms:W3CDTF">2010-06-08T20:31:17Z</dcterms:modified>
  <cp:revision>54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