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965-2FDC-43A7-A67B-0522F925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01D-CE94-449E-B43F-240D1611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17A-CF75-4084-B1E9-4E2425A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CCF-5874-4C6C-8D94-AA90A23D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B043-9504-4F5E-B739-E2CD97E8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7CAC-68ED-4CFC-B952-E0A4B73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C99-2305-4EF0-8E8C-CE414CF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6269-C456-4662-B571-17DC918C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021F-BD5C-4CE3-938D-3B91435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987E-B2BE-41C5-BF5F-9B058B1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F51D-12E0-4292-8C87-2CA220EE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2B4-BE46-44F4-9472-803BD622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DB34-8D10-4958-9549-64F93FF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92CE-91EB-42A2-8122-6A46B65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3256-A909-474A-BBB1-91D4090C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96C8-2640-497D-888A-F5552D03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904-A138-49AC-9397-426D7E65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BBC-3034-4234-9EA5-9BB8A72C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636-C314-496F-A8DF-6F2D35A8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226-DE03-4097-85C5-240EC5A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8B8-0191-422E-9551-7DFEF70F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711-2B8A-423D-B150-EDBA9805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3D0-C116-4E73-AEBB-E865B296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7A2-1AB8-479C-8054-8268D4D8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4045-8CAA-41B4-9591-EF60449A78BF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ADD-099A-459D-8051-9013A10546BD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Laurie Hutchison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Unit Summary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Writing is a necessary skill, used frequently in life. When students are taught to write correctly in an early grade, this benefits their entire school career. Primary students need to have a solid foundation in writing skills. By the end of this unit of study, students will be able to write a narrative that includes a main idea, a character, and a sequence of events. They will demonstrate and apply capitalization, punctuation, and sentence building. This will be accomplished in a 9-week timeline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urriculum-Framing Questions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Essential Question 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id it happen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become a wri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Conten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main idea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charac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can I put my sentences in ord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write a sentence using a capital and a period?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s project will help my students develop 21</a:t>
            </a:r>
            <a:r>
              <a:rPr b="0" lang="en-US" sz="3200" spc="-1" strike="noStrike" baseline="30000">
                <a:solidFill>
                  <a:srgbClr val="4f261e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century skills by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71600" y="23695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Work appropriately and productively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onitor their own understanding and learni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liver quality work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monstrate positive group work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Act responsibly within their grou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61e"/>
                </a:solidFill>
                <a:latin typeface="Garamond"/>
              </a:rPr>
              <a:t>Gauging Student Needs Assessment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1600" y="129528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o gather information about what students already know about writing a sentence, putting in punctuation and capitalization, sequencing, main ideas, and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hat do I want to learn from my stud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want to find out what they already know about the Unit Questions and what they know about writing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have I tried to promote higher-order thin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am asking students to create their own topic, characters, and organize them into a nar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does the assessment information help me and my students plan for upcoming activities in the un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f many of the students already know how to write a sentence, I can move that group to the next level of activities. I can also reteach the skills some of the students are struggling with before moving on to a new skill. We will revisit this assessment throughout the unit so the students and I can continue to monitor their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7696080" y="762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762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nd ways to get my students more interested in learning to write storie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ncrease my students awareness of writing and publish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hare ideas with other teach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My Goals for the Cours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Goals for My Students 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learn how to write a story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ecome more independent learn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uild self esteem and confidence in their writ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want to publish and present their finished produc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default</cp:lastModifiedBy>
  <dcterms:modified xsi:type="dcterms:W3CDTF">2010-06-08T20:31:17Z</dcterms:modified>
  <cp:revision>54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