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CF4C-29E6-4E6B-938D-5D053CB7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9CAED-8BA9-419D-89EF-E2702E49A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5D72-8D31-4864-9295-CFD15DF7B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0742-BE41-4F99-BD71-A6BF6399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85972-F181-4E0F-926C-C6E365B2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2EE26-DB93-44F9-B88F-5E07DB83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5AA6-A763-43BF-BB8B-247C5463E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7347C-3269-4B5D-9BAF-88BC204E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F94FD-4925-4AB9-9E23-F9289BC33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082E-0E78-4293-8FA3-5F262BC5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63F1-6355-43BD-8DA8-C314BAFF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6463-2879-4175-BC97-65D51E29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7479-4C21-4715-AE15-B16098FD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ED1B6-88BE-4E16-B702-D22E8CA5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A38CB-93E3-41A0-A438-A776B73B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87ED4-796C-4FA5-8CDC-4A29F7FC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9556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43200" y="160020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44792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9556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43200" y="3964320"/>
            <a:ext cx="233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810EA-62ED-445B-985D-22CA1284C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AE55-03DE-4C07-A68E-1B610F63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EBF3-8C7E-4730-A244-C3018147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F676-A8B5-490A-BD4E-EF1BEE4BE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274320"/>
            <a:ext cx="7315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AA77-C641-415B-96B8-75A0D66E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B2BA-86C7-4826-980A-4996A7E35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57360" y="396432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A956-EE20-434D-B346-9ADEB548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7360" y="1600200"/>
            <a:ext cx="35323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447920" y="3964320"/>
            <a:ext cx="7238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12C8-84F1-40E4-9BD7-52CA78A5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5750-47B5-464E-8DFB-2261F31FACDC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c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1" marL="735480" indent="-28296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2" marL="1131480" indent="-226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3" marL="1584000" indent="-226080">
              <a:spcBef>
                <a:spcPts val="799"/>
              </a:spcBef>
              <a:buClr>
                <a:srgbClr val="4f261e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4" marL="2036520" indent="-226080">
              <a:spcBef>
                <a:spcPts val="799"/>
              </a:spcBef>
              <a:buClr>
                <a:srgbClr val="4f261e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447560" y="6244920"/>
            <a:ext cx="19047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50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f261e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C712-D2EB-47A2-AF26-D27B26074CC4}" type="slidenum">
              <a:rPr b="0" lang="en-US" sz="1200" spc="-1" strike="noStrike">
                <a:solidFill>
                  <a:srgbClr val="4f261e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1240" y="1142640"/>
            <a:ext cx="746748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f261e"/>
                </a:solidFill>
                <a:latin typeface="Garamond"/>
              </a:rPr>
              <a:t>Let’s Write A Story!</a:t>
            </a:r>
            <a:endParaRPr b="0" lang="en-US" sz="48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752480" y="3428640"/>
            <a:ext cx="6400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Unit Portfolio Presentation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Laurie Hutchison</a:t>
            </a: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Unit Summary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3746520" y="1219320"/>
            <a:ext cx="2801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566040" y="1219320"/>
            <a:ext cx="2666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99840" y="1447560"/>
            <a:ext cx="71629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f261e"/>
                </a:solidFill>
                <a:latin typeface="Garamond"/>
              </a:rPr>
              <a:t>Writing is a necessary skill, used frequently in life. When students are taught to write correctly in an early grade, this benefits their entire school career. Primary students need to have a solid foundation in writing skills. By the end of this unit of study, students will be able to write a narrative that includes a main idea, a character, and a sequence of events. They will demonstrate and apply capitalization, punctuation, and sentence building. This will be accomplished in a 9-week timeline.</a:t>
            </a:r>
            <a:endParaRPr b="0" lang="en-US" sz="28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Curriculum-Framing Questions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261e"/>
                </a:solidFill>
                <a:latin typeface="Garamond"/>
              </a:rPr>
              <a:t>Essential Question </a:t>
            </a:r>
            <a:br>
              <a:rPr sz="2800"/>
            </a:b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How did it happen?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261e"/>
                </a:solidFill>
                <a:latin typeface="Garamond"/>
              </a:rPr>
              <a:t>Unit Questions</a:t>
            </a:r>
            <a:br>
              <a:rPr sz="2800"/>
            </a:b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How do you become a writer?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f261e"/>
                </a:solidFill>
                <a:latin typeface="Garamond"/>
              </a:rPr>
              <a:t>Content Questions</a:t>
            </a:r>
            <a:br>
              <a:rPr sz="2800"/>
            </a:b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What is a main idea?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What is a character?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How can I put my sentences in order?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4f261e"/>
                </a:solidFill>
                <a:latin typeface="Garamond"/>
              </a:rPr>
              <a:t>How do you write a sentence using a capital and a period? </a:t>
            </a:r>
            <a:endParaRPr b="0" lang="en-US" sz="24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447920" y="1599840"/>
            <a:ext cx="72388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his project will help my students develop 21</a:t>
            </a:r>
            <a:r>
              <a:rPr b="0" lang="en-US" sz="3200" spc="-1" strike="noStrike" baseline="30000">
                <a:solidFill>
                  <a:srgbClr val="4f261e"/>
                </a:solidFill>
                <a:latin typeface="Garamond"/>
              </a:rPr>
              <a:t>st</a:t>
            </a: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 century skills by: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1371600" y="2743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Let’s Write a Story!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371600" y="2369520"/>
            <a:ext cx="7467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Work appropriately and productively with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Monitor their own understanding and learning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Deliver quality work 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Demonstrate positive group work et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  <a:ea typeface="Times New Roman"/>
              </a:rPr>
              <a:t>Act responsibly within their group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f261e"/>
                </a:solidFill>
                <a:latin typeface="Garamond"/>
              </a:rPr>
              <a:t>Gauging Student Needs Assessment</a:t>
            </a:r>
            <a:endParaRPr b="0" lang="en-US" sz="36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371600" y="1295280"/>
            <a:ext cx="7162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Purpose of the 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To gather information about what students already know about writing a sentence, putting in punctuation and capitalization, sequencing, main ideas, and charac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What do I want to learn from my studen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I want to find out what they already know about the Unit Questions and what they know about writing skil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How have I tried to promote higher-order thinki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I am asking students to create their own topic, characters, and organize them into a narrat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How does the assessment information help me and my students plan for upcoming activities in the un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  <a:ea typeface="Arial"/>
              </a:rPr>
              <a:t>If many of the students already know how to write a sentence, I can move that group to the next level of activities. I can also reteach the skills some of the students are struggling with before moving on to a new skill. We will revisit this assessment throughout the unit so the students and I can continue to monitor their progr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9"/>
          <p:cNvGraphicFramePr/>
          <p:nvPr/>
        </p:nvGraphicFramePr>
        <p:xfrm>
          <a:off x="7696080" y="762120"/>
          <a:ext cx="914400" cy="714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96080" y="762120"/>
                    <a:ext cx="91440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Find ways to get my students more interested in learning to write stories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Increase my students awareness of writing and publishing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Share ideas with other teachers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My Goals for the Course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f261e"/>
                </a:solidFill>
                <a:latin typeface="Garamond"/>
              </a:rPr>
              <a:t>Goals for My Students </a:t>
            </a:r>
            <a:endParaRPr b="0" lang="en-US" sz="4400" spc="-1" strike="noStrike">
              <a:solidFill>
                <a:srgbClr val="4f261e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o learn how to write a story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o become more independent learners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o build self esteem and confidence in their writing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4f261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f261e"/>
                </a:solidFill>
                <a:latin typeface="Garamond"/>
              </a:rPr>
              <a:t>To want to publish and present their finished product</a:t>
            </a:r>
            <a:endParaRPr b="0" lang="en-US" sz="3200" spc="-1" strike="noStrike">
              <a:solidFill>
                <a:srgbClr val="4f261e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16:17:37Z</dcterms:created>
  <dc:creator>cbaker1X</dc:creator>
  <dc:description/>
  <dc:language>en-US</dc:language>
  <cp:lastModifiedBy>default</cp:lastModifiedBy>
  <dcterms:modified xsi:type="dcterms:W3CDTF">2010-06-08T20:31:17Z</dcterms:modified>
  <cp:revision>54</cp:revision>
  <dc:subject/>
  <dc:title>Is it possible to conquer the impossibl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oject Phase">
    <vt:lpwstr>Module 2</vt:lpwstr>
  </property>
</Properties>
</file>