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applause.wav" ContentType="audio/x-wav"/>
  <Override PartName="/ppt/media/hammer.wav" ContentType="audio/x-wav"/>
  <Override PartName="/ppt/media/image8.wmf" ContentType="image/x-wmf"/>
  <Override PartName="/ppt/media/image12.jpeg" ContentType="image/jpeg"/>
  <Override PartName="/ppt/media/image13.png" ContentType="image/png"/>
  <Override PartName="/ppt/media/clap.wav" ContentType="audio/x-wav"/>
  <Override PartName="/ppt/media/image3.png" ContentType="image/png"/>
  <Override PartName="/ppt/media/image16.wmf" ContentType="image/x-wmf"/>
  <Override PartName="/ppt/media/image15.png" ContentType="image/png"/>
  <Override PartName="/ppt/media/image1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7.wmf" ContentType="image/x-wmf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C86-6B26-469F-A892-35A0666B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F9F7-2FFF-4BF9-984F-EDFF934F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B63-FAA8-440D-B87F-50EE905C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C5E7-2622-4F05-87AC-AB3CC697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E2B5-0E0B-4436-AD7F-BCA26E01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DC42-E7E9-47F2-B41B-D4D4BC03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079E-C883-4CC8-A944-C0AFEA36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ECCB-597D-43D1-A566-3AF33D93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B623-99CF-475B-A80C-057C2F67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3584-CE77-4735-A1C5-86141DD7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F484-C5E2-4E30-AED6-ACA7D20B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9819-3608-4EE7-9FD6-79287C2F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FCCE-59B9-4682-9323-D31BED54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83A5-C9C2-4DF9-A0DE-49681A4D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F114-6A6A-4E08-A606-139556CF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10FE-C4BF-4305-A1CD-09B7DBFC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CC6C-DEB9-4F74-A85E-C1962CEE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7A3C1-0853-4CE8-B83C-0F2347E2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217EF-FC3F-424C-96F6-677122EE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5DC60-1020-4BA0-A165-10EF998D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6F49A-0007-4DA9-9CE0-B0A3BE68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99AEB-B8BC-4FE3-B955-D8C219AB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BA85-F386-421C-8B09-49D82191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90E06-6FFB-461D-B3A6-F2DC74C2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7892C-218F-4240-945E-CF360AC7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9A6F4-DE16-4999-9048-0C7AE662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492F5-4D29-4DCE-B9F6-4F95F1D5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FD001-7172-461D-AE04-9A6E4255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B77E9-9D73-4B17-99D6-DB7CA28C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1FE09-9805-4953-914F-9D9084AA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D374D-BC45-4E68-9EFB-E31CE33F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3D354-D847-4FAC-B875-FCECC3A0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C5FC1-A0F4-4511-9000-9E577CA7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164D-22A9-4CF0-AA37-F2038906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564F8-643F-4B45-9333-911F66BB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25FFB-480F-4EC0-B6DB-FD6F0C12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918CF-F5AA-42F5-9723-35CC45DC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13EE0-1932-48AD-80DB-2A77945B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0C1A2-AFED-461D-8342-BE4F8855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12488-EE9A-4A2C-9AC1-B07B0F0D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0FBCE-1764-499D-8B6A-3D159CA5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7F4E3-37C4-42BB-BAA9-15F8016E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36889-934F-43F7-95CB-892E59F0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471-8156-4668-8AF5-45685FD6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6A57-CE84-4FE5-BDBB-FD7E3450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BAC9-6531-4B9A-ACAA-BE5927FA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38F3-EC13-4534-B1E0-F0433444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5098-6EB1-4F84-9A0E-FE45F8EC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5B98-F3D0-42D3-B47C-64B87F06914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E73F-B20D-471C-A9EF-ACDB69CD40D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948A-BFAA-47A9-8B6E-7844F66ED74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E878-9C6D-469A-90F7-8D213A1E980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8.wmf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ext Box 6" descr=""/>
          <p:cNvPicPr/>
          <p:nvPr/>
        </p:nvPicPr>
        <p:blipFill>
          <a:blip r:embed="rId1"/>
          <a:stretch/>
        </p:blipFill>
        <p:spPr>
          <a:xfrm>
            <a:off x="682560" y="907920"/>
            <a:ext cx="7785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8080" y="2209320"/>
            <a:ext cx="74678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e Supreme Queen of Teachers 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wants YOU to write a story! 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he wants YOU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o learn: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12" descr="C:\Documents and Settings\lhutchis\Local Settings\Temporary Internet Files\Content.IE5\L7L27N3A\MC900432445[1].wmf"/>
          <p:cNvPicPr/>
          <p:nvPr/>
        </p:nvPicPr>
        <p:blipFill>
          <a:blip r:embed="rId2"/>
          <a:stretch/>
        </p:blipFill>
        <p:spPr>
          <a:xfrm>
            <a:off x="3657600" y="457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7400" y="704520"/>
            <a:ext cx="601992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How to put in capitals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and period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How to write about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character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How to write a main idea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6858000" cy="394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upreme Queen of Teach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eds YOU to:</a:t>
            </a: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Picture 4" descr="C:\Documents and Settings\lhutchis\Local Settings\Temporary Internet Files\Content.IE5\8VIN69YS\MC900432445[1].wmf"/>
          <p:cNvPicPr/>
          <p:nvPr/>
        </p:nvPicPr>
        <p:blipFill>
          <a:blip r:embed="rId2"/>
          <a:stretch/>
        </p:blipFill>
        <p:spPr>
          <a:xfrm>
            <a:off x="3429000" y="68580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2"/>
          <p:cNvSpPr/>
          <p:nvPr/>
        </p:nvSpPr>
        <p:spPr>
          <a:xfrm>
            <a:off x="2286000" y="16002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se a jou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se a comput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k in group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k with a partn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1" descr="C:\Documents and Settings\lhutchis\Local Settings\Temporary Internet Files\Content.IE5\RJB9X22A\MC900071399[1].wmf"/>
          <p:cNvPicPr/>
          <p:nvPr/>
        </p:nvPicPr>
        <p:blipFill>
          <a:blip r:embed="rId2"/>
          <a:stretch/>
        </p:blipFill>
        <p:spPr>
          <a:xfrm>
            <a:off x="1447920" y="838080"/>
            <a:ext cx="1582560" cy="1389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C:\Program Files\Microsoft Office\MEDIA\CAGCAT10\j0195384.wmf"/>
          <p:cNvPicPr/>
          <p:nvPr/>
        </p:nvPicPr>
        <p:blipFill>
          <a:blip r:embed="rId3"/>
          <a:stretch/>
        </p:blipFill>
        <p:spPr>
          <a:xfrm>
            <a:off x="6400800" y="762120"/>
            <a:ext cx="1432080" cy="1296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C:\Documents and Settings\lhutchis\Local Settings\Temporary Internet Files\Content.IE5\9NLQ0XPW\MP900442438[1].jpg"/>
          <p:cNvPicPr/>
          <p:nvPr/>
        </p:nvPicPr>
        <p:blipFill>
          <a:blip r:embed="rId4"/>
          <a:stretch/>
        </p:blipFill>
        <p:spPr>
          <a:xfrm>
            <a:off x="6172200" y="3962520"/>
            <a:ext cx="1523880" cy="1366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" descr="C:\Documents and Settings\lhutchis\Local Settings\Temporary Internet Files\Content.IE5\8VIN69YS\MP900422862[1].jpg"/>
          <p:cNvPicPr/>
          <p:nvPr/>
        </p:nvPicPr>
        <p:blipFill>
          <a:blip r:embed="rId5"/>
          <a:stretch/>
        </p:blipFill>
        <p:spPr>
          <a:xfrm>
            <a:off x="1828800" y="4038480"/>
            <a:ext cx="152388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j0162916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1523880" y="2590920"/>
            <a:ext cx="64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upreme Queen of Teach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eds YOU t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C:\Documents and Settings\lhutchis\Local Settings\Temporary Internet Files\Content.IE5\8VIN69YS\MC900432445[1].wmf"/>
          <p:cNvPicPr/>
          <p:nvPr/>
        </p:nvPicPr>
        <p:blipFill>
          <a:blip r:embed="rId2"/>
          <a:stretch/>
        </p:blipFill>
        <p:spPr>
          <a:xfrm>
            <a:off x="3505320" y="68580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3880" y="2895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y atten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e a good listen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llow classroom rul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5" descr="C:\Documents and Settings\lhutchis\Local Settings\Temporary Internet Files\Content.IE5\2QWIKAC6\MC900439824[1].png"/>
          <p:cNvPicPr/>
          <p:nvPr/>
        </p:nvPicPr>
        <p:blipFill>
          <a:blip r:embed="rId2"/>
          <a:stretch/>
        </p:blipFill>
        <p:spPr>
          <a:xfrm>
            <a:off x="1523880" y="838080"/>
            <a:ext cx="1676520" cy="1219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:\Documents and Settings\lhutchis\Local Settings\Temporary Internet Files\Content.IE5\L7L27N3A\MC900064950[1].wmf"/>
          <p:cNvPicPr/>
          <p:nvPr/>
        </p:nvPicPr>
        <p:blipFill>
          <a:blip r:embed="rId3"/>
          <a:stretch/>
        </p:blipFill>
        <p:spPr>
          <a:xfrm>
            <a:off x="6858000" y="914400"/>
            <a:ext cx="965160" cy="101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Kristen ITC"/>
              </a:rPr>
              <a:t>You are finish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DD01837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0"/>
          <p:cNvSpPr/>
          <p:nvPr/>
        </p:nvSpPr>
        <p:spPr>
          <a:xfrm>
            <a:off x="1828800" y="1905120"/>
            <a:ext cx="563868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t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 har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gned -The Supreme Qu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Teacher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" descr="C:\Documents and Settings\lhutchis\Local Settings\Temporary Internet Files\Content.IE5\8VIN69YS\MC900432445[1].wmf"/>
          <p:cNvPicPr/>
          <p:nvPr/>
        </p:nvPicPr>
        <p:blipFill>
          <a:blip r:embed="rId3"/>
          <a:stretch/>
        </p:blipFill>
        <p:spPr>
          <a:xfrm>
            <a:off x="5943600" y="4267080"/>
            <a:ext cx="1371600" cy="91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1T22:31:18Z</dcterms:created>
  <dc:creator>KSD Kyrene School District</dc:creator>
  <dc:description/>
  <dc:language>en-US</dc:language>
  <cp:lastModifiedBy>default</cp:lastModifiedBy>
  <dcterms:modified xsi:type="dcterms:W3CDTF">2010-06-10T18:16:47Z</dcterms:modified>
  <cp:revision>38</cp:revision>
  <dc:subject/>
  <dc:title>Phonemic Awareness Assessments</dc:title>
</cp:coreProperties>
</file>