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applause.wav" ContentType="audio/x-wav"/>
  <Override PartName="/ppt/media/hammer.wav" ContentType="audio/x-wav"/>
  <Override PartName="/ppt/media/image8.wmf" ContentType="image/x-wmf"/>
  <Override PartName="/ppt/media/image12.jpeg" ContentType="image/jpeg"/>
  <Override PartName="/ppt/media/image13.png" ContentType="image/png"/>
  <Override PartName="/ppt/media/clap.wav" ContentType="audio/x-wav"/>
  <Override PartName="/ppt/media/image3.png" ContentType="image/png"/>
  <Override PartName="/ppt/media/image1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3C66-4004-4A5A-9638-1D76F303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301A-7570-400A-9776-E131759C1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7651-A484-43D5-97FE-4A82BB03F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478C-69FF-43D2-A7ED-257C9AEF5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315A-5477-4B6F-9C71-F760234F5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DB9DB-B8EE-458E-B34C-1A3AF3D2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6F60-09EE-4373-A9AC-0FED1DCF7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2D25A-75A2-4BBF-9290-F36193B6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333F-E139-454D-812C-CB68E0DD7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F1A0D-B85C-4DC0-8842-E03E7C619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8D1F-A95E-4B6D-B9CE-41B622AA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80A6-5E9B-40D2-B053-AA99B034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47637-4159-4D31-BA7A-6E2034A6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00C6-2273-4F32-9CAB-233A5CD8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3FD6-5674-4FD0-B162-60FE1114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3F088-A898-4D63-8E82-C489FC439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B4237-FEBC-4CAD-B2A2-E4C3CE8C59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C74EC-2B89-459B-9B6A-BDDFEB60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684659-1670-45C7-BC70-022847CDF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F2BFD-DC60-459B-B8EF-AC63B4743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5803-ED82-4363-88A0-B2903AF42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7785D-A104-473C-8AD7-2FEA1BB1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E38-D995-407D-8605-C5E6981B0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408D8-A137-435F-9726-195AFB06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5C6CF-2930-444D-9645-C51190758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E1C1CF-EA25-4D4C-AA3B-F5EC77DF9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7460D-7458-477D-B480-54881610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4A79A-8D9B-4AA7-848A-09DEFD9F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145AF-C0D3-4B11-AB1D-9CEA3E74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BC9AE9-CA6F-4D1D-89C4-8D9D51325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71FE31-4D3E-4F66-9EB6-AA3650754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51FB6-18D5-49FE-8570-DB3E0FC7E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2189D-73BD-4685-BCAB-6C950AD23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0D94-A945-4CC4-93D1-BEBEE0836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430F95-C4F3-4B79-A665-2E670E1EA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27E60-9F32-4D7C-BF78-2C19D654D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95DF0-74D3-4A92-8354-1EF7090B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29311-A1C5-488D-9866-A4B4F2B6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95FF7-1888-4DEA-AF0C-8D7BCFED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9004A-4067-4F1D-9650-BB5EBCBC3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8655C-E949-4EE7-B37F-411BEC2A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C47474-C76B-4223-A928-4948806AB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42685-3CBE-4998-B164-4B5C8118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DA80-3E4B-41DB-AFF5-8A40B211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F2B-A766-4961-90CD-A65D00B9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B50-1417-45C2-981C-8E9FC49F5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3977-A804-47AD-B976-1DA44C848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EC1E-14C1-423F-A6B0-E67B0063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4A41-99B0-4DA3-9110-F9C8BE64DB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EA95-143E-47FB-AF12-A58BB5D9C68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50A02-D49C-4097-A626-3472C484244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C883-F70D-4C62-9C61-E7FB99AF32E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8.wm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 Box 6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785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8080" y="2209320"/>
            <a:ext cx="74678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wants YOU to write a story!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he wants YOU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 learn: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12" descr="C:\Documents and Settings\lhutchis\Local Settings\Temporary Internet Files\Content.IE5\L7L27N3A\MC900432445[1].wmf"/>
          <p:cNvPicPr/>
          <p:nvPr/>
        </p:nvPicPr>
        <p:blipFill>
          <a:blip r:embed="rId2"/>
          <a:stretch/>
        </p:blipFill>
        <p:spPr>
          <a:xfrm>
            <a:off x="3657600" y="457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400" y="704520"/>
            <a:ext cx="601992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How to put in capitals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and period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How to write about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characte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How to write a main idea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6858000" cy="394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s YOU to: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4" descr="C:\Documents and Settings\lhutchis\Local Settings\Temporary Internet Files\Content.IE5\8VIN69YS\MC900432445[1].wmf"/>
          <p:cNvPicPr/>
          <p:nvPr/>
        </p:nvPicPr>
        <p:blipFill>
          <a:blip r:embed="rId2"/>
          <a:stretch/>
        </p:blipFill>
        <p:spPr>
          <a:xfrm>
            <a:off x="3429000" y="6858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2"/>
          <p:cNvSpPr/>
          <p:nvPr/>
        </p:nvSpPr>
        <p:spPr>
          <a:xfrm>
            <a:off x="2286000" y="1600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a jou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a compu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in group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with a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C:\Documents and Settings\lhutchis\Local Settings\Temporary Internet Files\Content.IE5\RJB9X22A\MC900071399[1].wmf"/>
          <p:cNvPicPr/>
          <p:nvPr/>
        </p:nvPicPr>
        <p:blipFill>
          <a:blip r:embed="rId2"/>
          <a:stretch/>
        </p:blipFill>
        <p:spPr>
          <a:xfrm>
            <a:off x="1447920" y="838080"/>
            <a:ext cx="1582560" cy="1389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C:\Program Files\Microsoft Office\MEDIA\CAGCAT10\j0195384.wmf"/>
          <p:cNvPicPr/>
          <p:nvPr/>
        </p:nvPicPr>
        <p:blipFill>
          <a:blip r:embed="rId3"/>
          <a:stretch/>
        </p:blipFill>
        <p:spPr>
          <a:xfrm>
            <a:off x="6400800" y="762120"/>
            <a:ext cx="1432080" cy="129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C:\Documents and Settings\lhutchis\Local Settings\Temporary Internet Files\Content.IE5\9NLQ0XPW\MP900442438[1].jpg"/>
          <p:cNvPicPr/>
          <p:nvPr/>
        </p:nvPicPr>
        <p:blipFill>
          <a:blip r:embed="rId4"/>
          <a:stretch/>
        </p:blipFill>
        <p:spPr>
          <a:xfrm>
            <a:off x="6172200" y="3962520"/>
            <a:ext cx="1523880" cy="1366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C:\Documents and Settings\lhutchis\Local Settings\Temporary Internet Files\Content.IE5\8VIN69YS\MP900422862[1].jpg"/>
          <p:cNvPicPr/>
          <p:nvPr/>
        </p:nvPicPr>
        <p:blipFill>
          <a:blip r:embed="rId5"/>
          <a:stretch/>
        </p:blipFill>
        <p:spPr>
          <a:xfrm>
            <a:off x="1828800" y="4038480"/>
            <a:ext cx="15238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j0162916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1523880" y="259092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s YOU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C:\Documents and Settings\lhutchis\Local Settings\Temporary Internet Files\Content.IE5\8VIN69YS\MC900432445[1].wmf"/>
          <p:cNvPicPr/>
          <p:nvPr/>
        </p:nvPicPr>
        <p:blipFill>
          <a:blip r:embed="rId2"/>
          <a:stretch/>
        </p:blipFill>
        <p:spPr>
          <a:xfrm>
            <a:off x="3505320" y="6858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2895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y att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e a good listen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 classroom rul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5" descr="C:\Documents and Settings\lhutchis\Local Settings\Temporary Internet Files\Content.IE5\2QWIKAC6\MC900439824[1].png"/>
          <p:cNvPicPr/>
          <p:nvPr/>
        </p:nvPicPr>
        <p:blipFill>
          <a:blip r:embed="rId2"/>
          <a:stretch/>
        </p:blipFill>
        <p:spPr>
          <a:xfrm>
            <a:off x="1523880" y="83808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lhutchis\Local Settings\Temporary Internet Files\Content.IE5\L7L27N3A\MC900064950[1].wmf"/>
          <p:cNvPicPr/>
          <p:nvPr/>
        </p:nvPicPr>
        <p:blipFill>
          <a:blip r:embed="rId3"/>
          <a:stretch/>
        </p:blipFill>
        <p:spPr>
          <a:xfrm>
            <a:off x="6858000" y="914400"/>
            <a:ext cx="965160" cy="10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Kristen ITC"/>
              </a:rPr>
              <a:t>You are finish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DD01837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0"/>
          <p:cNvSpPr/>
          <p:nvPr/>
        </p:nvSpPr>
        <p:spPr>
          <a:xfrm>
            <a:off x="1828800" y="1905120"/>
            <a:ext cx="56386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t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har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gned -The Supreme Qu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eache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C:\Documents and Settings\lhutchis\Local Settings\Temporary Internet Files\Content.IE5\8VIN69YS\MC900432445[1].wmf"/>
          <p:cNvPicPr/>
          <p:nvPr/>
        </p:nvPicPr>
        <p:blipFill>
          <a:blip r:embed="rId3"/>
          <a:stretch/>
        </p:blipFill>
        <p:spPr>
          <a:xfrm>
            <a:off x="5943600" y="4267080"/>
            <a:ext cx="1371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22:31:18Z</dcterms:created>
  <dc:creator>KSD Kyrene School District</dc:creator>
  <dc:description/>
  <dc:language>en-US</dc:language>
  <cp:lastModifiedBy>default</cp:lastModifiedBy>
  <dcterms:modified xsi:type="dcterms:W3CDTF">2010-06-10T18:16:47Z</dcterms:modified>
  <cp:revision>38</cp:revision>
  <dc:subject/>
  <dc:title>Phonemic Awareness Assessments</dc:title>
</cp:coreProperties>
</file>