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applause.wav" ContentType="audio/x-wav"/>
  <Override PartName="/ppt/media/hammer.wav" ContentType="audio/x-wav"/>
  <Override PartName="/ppt/media/image8.wmf" ContentType="image/x-wmf"/>
  <Override PartName="/ppt/media/image12.jpeg" ContentType="image/jpeg"/>
  <Override PartName="/ppt/media/image13.png" ContentType="image/png"/>
  <Override PartName="/ppt/media/clap.wav" ContentType="audio/x-wav"/>
  <Override PartName="/ppt/media/image3.png" ContentType="image/png"/>
  <Override PartName="/ppt/media/image16.wmf" ContentType="image/x-wmf"/>
  <Override PartName="/ppt/media/image15.png" ContentType="image/png"/>
  <Override PartName="/ppt/media/image1.jpeg" ContentType="image/jpeg"/>
  <Override PartName="/ppt/media/image5.png" ContentType="image/pn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7.wmf" ContentType="image/x-wmf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22DF-7286-4896-9543-D803946A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8EE0-1F24-4F85-9167-A17B247E7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E5CD-0E57-480E-B748-8FAE94186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84A4-078E-48C1-8DCB-07C7B0825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14A9E-1E44-410F-B690-0DE54CC3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C324-B22A-4DFA-8F07-43056315F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10A9-9783-407E-87A7-7F0001EE3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D8242-57FC-49EB-87FA-D49408B00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ED200-8DF2-4D0B-B0D0-AC256D38F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D1EA7-3D1C-4E5F-97D0-45C91EB36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813BE-07D6-4AC2-A9BC-7606F567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59A4-9716-403D-BBA0-ED502A3F1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1DEAE-212F-45C9-86C3-1372002F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9A24-F55D-4B9E-BEC6-92F51AAB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8E083-7035-441C-991A-2D56B53E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EBFE-2BA9-400D-8800-7B8BB1005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737F5-6E2B-40C3-BF22-80CF31F18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789180-7A79-48FF-A285-A4E14B6EE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81452-1058-475D-8FDF-B973A909C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4D55E2-9488-4260-90A9-C60A2B4E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EB7BA5-A2B4-407D-857C-EC876F27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5961A-A746-458B-A9AB-E6B14BBAF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4BC5-C8B7-4E4C-A9AD-79CF71F55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025CF-5BDE-472C-AE41-425E44CD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6B9BE-C0BF-495D-889F-AE0705DA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5AB81-2BBA-4DFD-B5EA-49E94803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2ECA5-30B0-4513-8832-9158CE5D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E764BB-517C-4F78-A20B-F69F61AE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47680-8C44-4F36-B697-E08BC2F5B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3C2A81-8AAB-413A-8148-96D9EA856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FDE7DC-61F6-417F-9FC3-B946572C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677E3-B814-4595-836E-EB10FABB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7F5165-A9A7-4805-9356-5CABE794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6948-48EE-4568-87E1-183EF8E4C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ADED8-6DAF-40B7-8628-F56680798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77D76D-C17A-4DAB-AB1C-755F1618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7DBF99-7100-48AC-B493-0D2493CF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78713-F3F6-4A5B-9309-844072426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762B86-4A09-4097-AD8B-F2758B97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5353E-53C2-4BCF-9514-AC929C41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5A33A-B539-4B71-97F8-A89D5038D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6519B-1C2A-4FCA-81B9-9DABF808B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A64A2-9559-47B5-89C0-F549D853F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17D53-5299-4848-94EE-EFB30385D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63D7-0FBF-496D-97F3-09E4930AC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B573-96E3-42F1-9EAA-1EB899C59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1C7B-F6E4-4C12-80ED-6B6C5B673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F490-8A33-4911-A4BA-CDC6001E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7694-BE0B-4EB3-8FF1-E3A1F64C19A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E0CB9-DD46-4DA4-810D-BDE3A089B45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7CF8-341C-4A2A-A86C-9BC14FC9B35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4194E-4DB5-479F-821D-EC518CA3696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3.png"/><Relationship Id="rId3" Type="http://schemas.openxmlformats.org/officeDocument/2006/relationships/image" Target="../media/image14.wmf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image" Target="../media/image8.wmf"/><Relationship Id="rId4" Type="http://schemas.openxmlformats.org/officeDocument/2006/relationships/audio" Target="../media/clap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ext Box 6" descr=""/>
          <p:cNvPicPr/>
          <p:nvPr/>
        </p:nvPicPr>
        <p:blipFill>
          <a:blip r:embed="rId1"/>
          <a:stretch/>
        </p:blipFill>
        <p:spPr>
          <a:xfrm>
            <a:off x="682560" y="907920"/>
            <a:ext cx="7785000" cy="36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38080" y="2209320"/>
            <a:ext cx="746784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he Supreme Queen of Teachers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wants YOU to write a story!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She wants YOU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Comic Sans MS"/>
              </a:rPr>
              <a:t>to learn: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7" name="Picture 12" descr="C:\Documents and Settings\lhutchis\Local Settings\Temporary Internet Files\Content.IE5\L7L27N3A\MC900432445[1].wmf"/>
          <p:cNvPicPr/>
          <p:nvPr/>
        </p:nvPicPr>
        <p:blipFill>
          <a:blip r:embed="rId2"/>
          <a:stretch/>
        </p:blipFill>
        <p:spPr>
          <a:xfrm>
            <a:off x="3657600" y="457200"/>
            <a:ext cx="2133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057400" y="704520"/>
            <a:ext cx="6019920" cy="4629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. How to put in capitals 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and period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. How to write about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      characters.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. How to write a main idea.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1218960"/>
            <a:ext cx="6858000" cy="3943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upreme Queen of Teach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eds YOU to:</a:t>
            </a:r>
            <a:br>
              <a:rPr sz="2800"/>
            </a:br>
            <a:br>
              <a:rPr sz="2800"/>
            </a:b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Picture 4" descr="C:\Documents and Settings\lhutchis\Local Settings\Temporary Internet Files\Content.IE5\8VIN69YS\MC900432445[1].wmf"/>
          <p:cNvPicPr/>
          <p:nvPr/>
        </p:nvPicPr>
        <p:blipFill>
          <a:blip r:embed="rId2"/>
          <a:stretch/>
        </p:blipFill>
        <p:spPr>
          <a:xfrm>
            <a:off x="3429000" y="68580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2"/>
          <p:cNvSpPr/>
          <p:nvPr/>
        </p:nvSpPr>
        <p:spPr>
          <a:xfrm>
            <a:off x="2286000" y="16002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e a jou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use a computer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 in group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ork with a partn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11" descr="C:\Documents and Settings\lhutchis\Local Settings\Temporary Internet Files\Content.IE5\RJB9X22A\MC900071399[1].wmf"/>
          <p:cNvPicPr/>
          <p:nvPr/>
        </p:nvPicPr>
        <p:blipFill>
          <a:blip r:embed="rId2"/>
          <a:stretch/>
        </p:blipFill>
        <p:spPr>
          <a:xfrm>
            <a:off x="1447920" y="838080"/>
            <a:ext cx="1582560" cy="13892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2" descr="C:\Program Files\Microsoft Office\MEDIA\CAGCAT10\j0195384.wmf"/>
          <p:cNvPicPr/>
          <p:nvPr/>
        </p:nvPicPr>
        <p:blipFill>
          <a:blip r:embed="rId3"/>
          <a:stretch/>
        </p:blipFill>
        <p:spPr>
          <a:xfrm>
            <a:off x="6400800" y="762120"/>
            <a:ext cx="1432080" cy="12967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3" descr="C:\Documents and Settings\lhutchis\Local Settings\Temporary Internet Files\Content.IE5\9NLQ0XPW\MP900442438[1].jpg"/>
          <p:cNvPicPr/>
          <p:nvPr/>
        </p:nvPicPr>
        <p:blipFill>
          <a:blip r:embed="rId4"/>
          <a:stretch/>
        </p:blipFill>
        <p:spPr>
          <a:xfrm>
            <a:off x="6172200" y="3962520"/>
            <a:ext cx="1523880" cy="1366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7" descr="C:\Documents and Settings\lhutchis\Local Settings\Temporary Internet Files\Content.IE5\8VIN69YS\MP900422862[1].jpg"/>
          <p:cNvPicPr/>
          <p:nvPr/>
        </p:nvPicPr>
        <p:blipFill>
          <a:blip r:embed="rId5"/>
          <a:stretch/>
        </p:blipFill>
        <p:spPr>
          <a:xfrm>
            <a:off x="1828800" y="4038480"/>
            <a:ext cx="1523880" cy="11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j0162916"/>
          <p:cNvPicPr/>
          <p:nvPr/>
        </p:nvPicPr>
        <p:blipFill>
          <a:blip r:embed="rId1"/>
          <a:stretch/>
        </p:blipFill>
        <p:spPr>
          <a:xfrm>
            <a:off x="0" y="5868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5"/>
          <p:cNvSpPr/>
          <p:nvPr/>
        </p:nvSpPr>
        <p:spPr>
          <a:xfrm>
            <a:off x="1523880" y="2590920"/>
            <a:ext cx="6477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 Supreme Queen of Teacher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needs YOU to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C:\Documents and Settings\lhutchis\Local Settings\Temporary Internet Files\Content.IE5\8VIN69YS\MC900432445[1].wmf"/>
          <p:cNvPicPr/>
          <p:nvPr/>
        </p:nvPicPr>
        <p:blipFill>
          <a:blip r:embed="rId2"/>
          <a:stretch/>
        </p:blipFill>
        <p:spPr>
          <a:xfrm>
            <a:off x="3505320" y="685800"/>
            <a:ext cx="22860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j0162916"/>
          <p:cNvPicPr/>
          <p:nvPr/>
        </p:nvPicPr>
        <p:blipFill>
          <a:blip r:embed="rId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523880" y="28951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y atten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Be a good listen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llow classroom rule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4" name="Picture 5" descr="C:\Documents and Settings\lhutchis\Local Settings\Temporary Internet Files\Content.IE5\2QWIKAC6\MC900439824[1].png"/>
          <p:cNvPicPr/>
          <p:nvPr/>
        </p:nvPicPr>
        <p:blipFill>
          <a:blip r:embed="rId2"/>
          <a:stretch/>
        </p:blipFill>
        <p:spPr>
          <a:xfrm>
            <a:off x="1523880" y="838080"/>
            <a:ext cx="1676520" cy="12193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Documents and Settings\lhutchis\Local Settings\Temporary Internet Files\Content.IE5\L7L27N3A\MC900064950[1].wmf"/>
          <p:cNvPicPr/>
          <p:nvPr/>
        </p:nvPicPr>
        <p:blipFill>
          <a:blip r:embed="rId3"/>
          <a:stretch/>
        </p:blipFill>
        <p:spPr>
          <a:xfrm>
            <a:off x="6858000" y="914400"/>
            <a:ext cx="965160" cy="101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spcBef>
                <a:spcPts val="31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Kristen ITC"/>
              </a:rPr>
              <a:t>You are finish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DD01837_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TextBox 10"/>
          <p:cNvSpPr/>
          <p:nvPr/>
        </p:nvSpPr>
        <p:spPr>
          <a:xfrm>
            <a:off x="1828800" y="1905120"/>
            <a:ext cx="563868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t bac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fun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&amp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k har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gned -The Supreme Qu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 Teacher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4" descr="C:\Documents and Settings\lhutchis\Local Settings\Temporary Internet Files\Content.IE5\8VIN69YS\MC900432445[1].wmf"/>
          <p:cNvPicPr/>
          <p:nvPr/>
        </p:nvPicPr>
        <p:blipFill>
          <a:blip r:embed="rId3"/>
          <a:stretch/>
        </p:blipFill>
        <p:spPr>
          <a:xfrm>
            <a:off x="5943600" y="4267080"/>
            <a:ext cx="1371600" cy="91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1T22:31:18Z</dcterms:created>
  <dc:creator>KSD Kyrene School District</dc:creator>
  <dc:description/>
  <dc:language>en-US</dc:language>
  <cp:lastModifiedBy>default</cp:lastModifiedBy>
  <dcterms:modified xsi:type="dcterms:W3CDTF">2010-06-10T18:16:47Z</dcterms:modified>
  <cp:revision>38</cp:revision>
  <dc:subject/>
  <dc:title>Phonemic Awareness Assessments</dc:title>
</cp:coreProperties>
</file>