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applause.wav" ContentType="audio/x-wav"/>
  <Override PartName="/ppt/media/hammer.wav" ContentType="audio/x-wav"/>
  <Override PartName="/ppt/media/image8.wmf" ContentType="image/x-wmf"/>
  <Override PartName="/ppt/media/image12.jpeg" ContentType="image/jpeg"/>
  <Override PartName="/ppt/media/image13.png" ContentType="image/png"/>
  <Override PartName="/ppt/media/clap.wav" ContentType="audio/x-wav"/>
  <Override PartName="/ppt/media/image3.png" ContentType="image/png"/>
  <Override PartName="/ppt/media/image16.wmf" ContentType="image/x-wmf"/>
  <Override PartName="/ppt/media/image15.png" ContentType="image/png"/>
  <Override PartName="/ppt/media/image1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7.wmf" ContentType="image/x-wmf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140-98D2-4500-A362-374CEA44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0DD6-048D-455D-B455-2137FF26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4956-324F-45A7-86C6-1436E5E7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829-0FD4-43A3-BC98-DD34A1B1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14E0-B67C-45DB-9ED1-C8164E22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FE15-C63B-48EA-A213-EEEF30D6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CD8D-5FFE-4A78-B3BE-557FF8ED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97C6-3CC5-4B8D-B5E8-EA36A174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79B3-EEDA-47CE-8AA0-2BDAB5E1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AD29-3BD3-42AA-95D1-EA2AFA8C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F988-AC8C-4A87-A1DE-C3CCA0AF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7095-70E7-4D52-808A-4817B776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310E-0BAC-4D07-BAA3-D2A03EC4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E089-BE3B-45BB-B1EC-F1ED5BB3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73BA-2CCC-4892-B1D1-95C3CEEC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F1B4-C208-4D99-B71F-FEADF544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CB6B-2FAF-44F4-81E6-1AFE9441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F5570-055A-49BB-B5A5-241C7F15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CD497-1FB0-45B5-A782-90286425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2B826-A2D9-47D3-B751-C05516EF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9396B-BC96-492E-B23C-3F43CAC4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DA9F0-C0F0-4F01-A0E3-94D607D5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268C-58CC-498B-AF23-807FB517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AF45C-66C0-4C62-8773-54C149D5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74B9B-2A7C-4754-8178-69F1D863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8996B-719C-439D-964B-76199C9D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82C54-FA36-48DB-8856-462393B2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B8E7D-73E0-458C-8A99-3CAAE22B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FC53C-01FB-4064-AEF1-80EF02FA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8AE15-08F4-473F-97CE-F553FD7B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379EC-260C-4BFC-80EC-0F8BEF3F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70946-A867-4886-A5BF-5118D266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27C7A-04A1-48DB-9026-C7635B51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9966-60DC-43F2-AB80-35504151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654E0-0558-4158-B362-45AC9F9F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9B37D-115F-4B2E-BEC2-E1B7F1A3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C3E8E-F608-417D-97AF-05736B3A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28F8E-919F-4EC3-A9CF-848B3133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25D81-F470-4477-A50E-454983FA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0C155-CF00-4B50-90F3-DB2CFD50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A38AE-3A7B-43E2-806B-D9B158F0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4326A-D73B-454B-8FC8-AC656508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CDD77-7A57-423D-A465-CCCF8B85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8D95-CD4B-44C4-8F33-D2A98D01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C6E8-C2FA-4DED-8B19-D01AC1A4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6660-0B97-4EB7-A200-F4CE3F90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38CA-AD3A-4959-BEA4-533C77BC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576-02C2-44B1-AAF0-E9EC0EA6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4ECB-CDD5-49D0-A678-3E19BE48625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7CA8-8650-4F42-822C-CE8110C4420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A77C-A014-4119-A624-30C4004F9D0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5F9D-3DD8-42D4-A8E6-572237B92DE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8.wmf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ext Box 6" descr=""/>
          <p:cNvPicPr/>
          <p:nvPr/>
        </p:nvPicPr>
        <p:blipFill>
          <a:blip r:embed="rId1"/>
          <a:stretch/>
        </p:blipFill>
        <p:spPr>
          <a:xfrm>
            <a:off x="682560" y="907920"/>
            <a:ext cx="7785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8080" y="2209320"/>
            <a:ext cx="74678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he Supreme Queen of Teachers 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wants YOU to write a story! 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he wants YOU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o learn: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12" descr="C:\Documents and Settings\lhutchis\Local Settings\Temporary Internet Files\Content.IE5\L7L27N3A\MC900432445[1].wmf"/>
          <p:cNvPicPr/>
          <p:nvPr/>
        </p:nvPicPr>
        <p:blipFill>
          <a:blip r:embed="rId2"/>
          <a:stretch/>
        </p:blipFill>
        <p:spPr>
          <a:xfrm>
            <a:off x="3657600" y="457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j0162916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57400" y="704520"/>
            <a:ext cx="601992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How to put in capitals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and period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How to write about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character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How to write a main idea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j0162916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6858000" cy="3943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Supreme Queen of Teach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eds YOU to:</a:t>
            </a:r>
            <a:br>
              <a:rPr sz="2800"/>
            </a:br>
            <a:br>
              <a:rPr sz="28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Picture 4" descr="C:\Documents and Settings\lhutchis\Local Settings\Temporary Internet Files\Content.IE5\8VIN69YS\MC900432445[1].wmf"/>
          <p:cNvPicPr/>
          <p:nvPr/>
        </p:nvPicPr>
        <p:blipFill>
          <a:blip r:embed="rId2"/>
          <a:stretch/>
        </p:blipFill>
        <p:spPr>
          <a:xfrm>
            <a:off x="3429000" y="68580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j0162916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2"/>
          <p:cNvSpPr/>
          <p:nvPr/>
        </p:nvSpPr>
        <p:spPr>
          <a:xfrm>
            <a:off x="2286000" y="16002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se a jou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se a compute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rk in group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rk with a partn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1" descr="C:\Documents and Settings\lhutchis\Local Settings\Temporary Internet Files\Content.IE5\RJB9X22A\MC900071399[1].wmf"/>
          <p:cNvPicPr/>
          <p:nvPr/>
        </p:nvPicPr>
        <p:blipFill>
          <a:blip r:embed="rId2"/>
          <a:stretch/>
        </p:blipFill>
        <p:spPr>
          <a:xfrm>
            <a:off x="1447920" y="838080"/>
            <a:ext cx="1582560" cy="13892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C:\Program Files\Microsoft Office\MEDIA\CAGCAT10\j0195384.wmf"/>
          <p:cNvPicPr/>
          <p:nvPr/>
        </p:nvPicPr>
        <p:blipFill>
          <a:blip r:embed="rId3"/>
          <a:stretch/>
        </p:blipFill>
        <p:spPr>
          <a:xfrm>
            <a:off x="6400800" y="762120"/>
            <a:ext cx="1432080" cy="1296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C:\Documents and Settings\lhutchis\Local Settings\Temporary Internet Files\Content.IE5\9NLQ0XPW\MP900442438[1].jpg"/>
          <p:cNvPicPr/>
          <p:nvPr/>
        </p:nvPicPr>
        <p:blipFill>
          <a:blip r:embed="rId4"/>
          <a:stretch/>
        </p:blipFill>
        <p:spPr>
          <a:xfrm>
            <a:off x="6172200" y="3962520"/>
            <a:ext cx="1523880" cy="1366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7" descr="C:\Documents and Settings\lhutchis\Local Settings\Temporary Internet Files\Content.IE5\8VIN69YS\MP900422862[1].jpg"/>
          <p:cNvPicPr/>
          <p:nvPr/>
        </p:nvPicPr>
        <p:blipFill>
          <a:blip r:embed="rId5"/>
          <a:stretch/>
        </p:blipFill>
        <p:spPr>
          <a:xfrm>
            <a:off x="1828800" y="4038480"/>
            <a:ext cx="152388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j0162916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5"/>
          <p:cNvSpPr/>
          <p:nvPr/>
        </p:nvSpPr>
        <p:spPr>
          <a:xfrm>
            <a:off x="1523880" y="2590920"/>
            <a:ext cx="647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Supreme Queen of Teach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eds YOU t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C:\Documents and Settings\lhutchis\Local Settings\Temporary Internet Files\Content.IE5\8VIN69YS\MC900432445[1].wmf"/>
          <p:cNvPicPr/>
          <p:nvPr/>
        </p:nvPicPr>
        <p:blipFill>
          <a:blip r:embed="rId2"/>
          <a:stretch/>
        </p:blipFill>
        <p:spPr>
          <a:xfrm>
            <a:off x="3505320" y="68580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j0162916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3880" y="2895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y atten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Be a good listen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llow classroom rul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Picture 5" descr="C:\Documents and Settings\lhutchis\Local Settings\Temporary Internet Files\Content.IE5\2QWIKAC6\MC900439824[1].png"/>
          <p:cNvPicPr/>
          <p:nvPr/>
        </p:nvPicPr>
        <p:blipFill>
          <a:blip r:embed="rId2"/>
          <a:stretch/>
        </p:blipFill>
        <p:spPr>
          <a:xfrm>
            <a:off x="1523880" y="838080"/>
            <a:ext cx="1676520" cy="1219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C:\Documents and Settings\lhutchis\Local Settings\Temporary Internet Files\Content.IE5\L7L27N3A\MC900064950[1].wmf"/>
          <p:cNvPicPr/>
          <p:nvPr/>
        </p:nvPicPr>
        <p:blipFill>
          <a:blip r:embed="rId3"/>
          <a:stretch/>
        </p:blipFill>
        <p:spPr>
          <a:xfrm>
            <a:off x="6858000" y="914400"/>
            <a:ext cx="965160" cy="101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Kristen ITC"/>
              </a:rPr>
              <a:t>You are finish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DD01837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0"/>
          <p:cNvSpPr/>
          <p:nvPr/>
        </p:nvSpPr>
        <p:spPr>
          <a:xfrm>
            <a:off x="1828800" y="1905120"/>
            <a:ext cx="563868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t ba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fu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 har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gned -The Supreme Qu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 Teacher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4" descr="C:\Documents and Settings\lhutchis\Local Settings\Temporary Internet Files\Content.IE5\8VIN69YS\MC900432445[1].wmf"/>
          <p:cNvPicPr/>
          <p:nvPr/>
        </p:nvPicPr>
        <p:blipFill>
          <a:blip r:embed="rId3"/>
          <a:stretch/>
        </p:blipFill>
        <p:spPr>
          <a:xfrm>
            <a:off x="5943600" y="4267080"/>
            <a:ext cx="1371600" cy="914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1T22:31:18Z</dcterms:created>
  <dc:creator>KSD Kyrene School District</dc:creator>
  <dc:description/>
  <dc:language>en-US</dc:language>
  <cp:lastModifiedBy>default</cp:lastModifiedBy>
  <dcterms:modified xsi:type="dcterms:W3CDTF">2010-06-10T18:16:47Z</dcterms:modified>
  <cp:revision>38</cp:revision>
  <dc:subject/>
  <dc:title>Phonemic Awareness Assessments</dc:title>
</cp:coreProperties>
</file>