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B8A08-A66E-40A4-91D1-D5561E121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D0822-79BC-42DF-981A-7C57A266C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302F7-3D00-4516-91B4-6CBD4E80F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3D80C-164B-4CFB-A496-44C703DE0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8C2F5-5FB2-4938-A54D-C952D6319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9523B-1332-49D5-8998-CAF841AF7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1125C-0B50-4FBB-9118-23FB1F866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8A380-FF1E-4C28-B662-E9EBE2497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C5FEA-17DC-486F-B063-EDB47EE4F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21EF3-33E0-47BA-A4B2-34A65046C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80A9D-3091-4D0E-A4DE-A006E96E8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84DF5-E63F-4677-90D8-74B28072F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4A648-EB0F-474B-BA87-2BFCC23F5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B0C4B-9776-46F9-BD43-048A4AE3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642A9-0B68-48DB-B41D-9482B497C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15FE2-4040-44B0-8A40-ADE51AE97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AA320-FD5C-41A4-8073-AB4D830BD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53D87-FE69-4133-9C7D-FE041416D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3234-EE90-4BEC-AB6F-2497FE256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73946-A1F1-4734-AE06-731152F1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6D25A-761D-4E37-ADCF-A34D93F0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0423-B72A-47B7-92EA-08BCE2BB9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5CDD-1D13-462B-B9A4-3BFA657B4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3ACE4-4D79-47B7-AF30-64486E39A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scifair_INSIDE"/>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2EA3-43AF-4E3C-9620-CDE4E868D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scifair_front"/>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5"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46"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368F-CEC3-4B58-BFB7-97B2C2AA19C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Science Fair Project</a:t>
            </a:r>
            <a:endParaRPr b="0" lang="en-US" sz="3500" spc="-1" strike="noStrike">
              <a:solidFill>
                <a:srgbClr val="000000"/>
              </a:solidFill>
              <a:latin typeface="Verdana"/>
            </a:endParaRPr>
          </a:p>
        </p:txBody>
      </p:sp>
      <p:sp>
        <p:nvSpPr>
          <p:cNvPr id="86" name="PlaceHolder 2"/>
          <p:cNvSpPr>
            <a:spLocks noGrp="1"/>
          </p:cNvSpPr>
          <p:nvPr>
            <p:ph type="subTitle"/>
          </p:nvPr>
        </p:nvSpPr>
        <p:spPr>
          <a:xfrm>
            <a:off x="1447560" y="2209680"/>
            <a:ext cx="6476760" cy="198144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ffects of Salt Water on Plant Growth</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Jimmy Ester</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r. Williams; 7/8 Science</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A.N.L.C.</a:t>
            </a:r>
            <a:endParaRPr b="0"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clusion</a:t>
            </a:r>
            <a:br>
              <a:rPr sz="3600"/>
            </a:br>
            <a:endParaRPr b="0" lang="en-US" sz="3600" spc="-1" strike="noStrike">
              <a:solidFill>
                <a:srgbClr val="000000"/>
              </a:solidFill>
              <a:latin typeface="Verdana"/>
            </a:endParaRPr>
          </a:p>
        </p:txBody>
      </p:sp>
      <p:sp>
        <p:nvSpPr>
          <p:cNvPr id="105" name="PlaceHolder 2"/>
          <p:cNvSpPr>
            <a:spLocks noGrp="1"/>
          </p:cNvSpPr>
          <p:nvPr>
            <p:ph/>
          </p:nvPr>
        </p:nvSpPr>
        <p:spPr>
          <a:xfrm>
            <a:off x="1066680" y="1600200"/>
            <a:ext cx="7010640" cy="4857840"/>
          </a:xfrm>
          <a:prstGeom prst="rect">
            <a:avLst/>
          </a:prstGeom>
          <a:noFill/>
          <a:ln w="0">
            <a:noFill/>
          </a:ln>
        </p:spPr>
        <p:txBody>
          <a:bodyPr anchor="t">
            <a:normAutofit/>
          </a:bodyPr>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alt solution eventually killed 100% of the treatment plant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treatment group failed to thrive in growth and remained pale or yellow throughout  the growth cycle , which impeded photosynthesi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control group continues the thrive and have actually produced been pods.  </a:t>
            </a:r>
            <a:endParaRPr b="0" lang="en-US" sz="19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hypothesis: “</a:t>
            </a:r>
            <a:r>
              <a:rPr b="0" lang="en-US" sz="2000" spc="-1" strike="noStrike">
                <a:solidFill>
                  <a:srgbClr val="000000"/>
                </a:solidFill>
                <a:latin typeface="Times New Roman"/>
              </a:rPr>
              <a:t>Bean plants receiving the 20% saline solution will die or fail to thrive as compared to the control bean plant group.” has been proven correct.</a:t>
            </a:r>
            <a:endParaRPr b="0" lang="en-US" sz="20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s Cited</a:t>
            </a:r>
            <a:endParaRPr b="0" lang="en-US" sz="3600" spc="-1" strike="noStrike">
              <a:solidFill>
                <a:srgbClr val="000000"/>
              </a:solidFill>
              <a:latin typeface="Verdana"/>
            </a:endParaRPr>
          </a:p>
        </p:txBody>
      </p:sp>
      <p:pic>
        <p:nvPicPr>
          <p:cNvPr id="107" name="Rectangle 7" descr=""/>
          <p:cNvPicPr/>
          <p:nvPr/>
        </p:nvPicPr>
        <p:blipFill>
          <a:blip r:embed="rId1"/>
          <a:stretch/>
        </p:blipFill>
        <p:spPr>
          <a:xfrm>
            <a:off x="1060560" y="2359080"/>
            <a:ext cx="7022880" cy="336528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631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Question: </a:t>
            </a:r>
            <a:endParaRPr b="0" lang="en-US" sz="3600" spc="-1" strike="noStrike">
              <a:solidFill>
                <a:srgbClr val="000000"/>
              </a:solidFill>
              <a:latin typeface="Verdana"/>
            </a:endParaRPr>
          </a:p>
        </p:txBody>
      </p:sp>
      <p:sp>
        <p:nvSpPr>
          <p:cNvPr id="88" name="PlaceHolder 2"/>
          <p:cNvSpPr>
            <a:spLocks noGrp="1"/>
          </p:cNvSpPr>
          <p:nvPr>
            <p:ph/>
          </p:nvPr>
        </p:nvSpPr>
        <p:spPr>
          <a:xfrm>
            <a:off x="0" y="2362320"/>
            <a:ext cx="91440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ffect will  a 20% saline solution have on the growth of a bean plant?</a:t>
            </a:r>
            <a:endParaRPr b="0" lang="en-US" sz="32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Overview</a:t>
            </a:r>
            <a:endParaRPr b="0" lang="en-US" sz="3600" spc="-1" strike="noStrike">
              <a:solidFill>
                <a:srgbClr val="000000"/>
              </a:solidFill>
              <a:latin typeface="Verdana"/>
            </a:endParaRPr>
          </a:p>
        </p:txBody>
      </p:sp>
      <p:sp>
        <p:nvSpPr>
          <p:cNvPr id="90" name="PlaceHolder 2"/>
          <p:cNvSpPr>
            <a:spLocks noGrp="1"/>
          </p:cNvSpPr>
          <p:nvPr>
            <p:ph/>
          </p:nvPr>
        </p:nvSpPr>
        <p:spPr>
          <a:xfrm>
            <a:off x="-360" y="2361960"/>
            <a:ext cx="8991720" cy="33526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rrigated agricultural regions of the Southwest United States are accumulating high concentrations of dissolved mineral salts in soil due to overuse and recycling of water resources .  When salt concentrations reach high levels, the soil becomes “sodic.” Sodic soils are characterized by a poor soil structure: they have a low infiltration rate, they are poorly aerated and difficult to cultivate. Thus, sodic soils adversely affect the plants' growth. </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is experiment will illustrate the effect of water containing a high concentration of salt on the growth of plants.</a:t>
            </a:r>
            <a:endParaRPr b="0" lang="en-US" sz="24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t>
            </a:r>
            <a:endParaRPr b="0" lang="en-US" sz="3600" spc="-1" strike="noStrike">
              <a:solidFill>
                <a:srgbClr val="000000"/>
              </a:solidFill>
              <a:latin typeface="Verdana"/>
            </a:endParaRPr>
          </a:p>
        </p:txBody>
      </p:sp>
      <p:sp>
        <p:nvSpPr>
          <p:cNvPr id="92" name="PlaceHolder 2"/>
          <p:cNvSpPr>
            <a:spLocks noGrp="1"/>
          </p:cNvSpPr>
          <p:nvPr>
            <p:ph/>
          </p:nvPr>
        </p:nvSpPr>
        <p:spPr>
          <a:xfrm>
            <a:off x="609480" y="1676160"/>
            <a:ext cx="7010640" cy="472428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oils that contain a harmful amount of salt are often referred to as salty or saline soils. Soil, or water, that has a high content of salt is said to have a high salinity.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soil may be rich in salts because the parent rock from which it was formed contains salts. Sea water is another source of salts in low-lying areas along the coast. A very common source of salts in irrigated soils is the irrigation water itself. Most irrigation waters contain some salt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re are two types of salt problems which are very different, those associated with the total salinity and those associated with sodium. Soils may be effected only by salinity or by a combination of both salinity and sodium.</a:t>
            </a:r>
            <a:endParaRPr b="0" lang="en-US" sz="2000" spc="-1" strike="noStrike">
              <a:solidFill>
                <a:srgbClr val="000000"/>
              </a:solidFill>
              <a:latin typeface="Times New Roman"/>
            </a:endParaRPr>
          </a:p>
          <a:p>
            <a:pPr lvl="1" marL="7430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190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riables</a:t>
            </a:r>
            <a:endParaRPr b="0" lang="en-US" sz="3600" spc="-1" strike="noStrike">
              <a:solidFill>
                <a:srgbClr val="000000"/>
              </a:solidFill>
              <a:latin typeface="Verdana"/>
            </a:endParaRPr>
          </a:p>
        </p:txBody>
      </p:sp>
      <p:sp>
        <p:nvSpPr>
          <p:cNvPr id="94" name="PlaceHolder 2"/>
          <p:cNvSpPr>
            <a:spLocks noGrp="1"/>
          </p:cNvSpPr>
          <p:nvPr>
            <p:ph/>
          </p:nvPr>
        </p:nvSpPr>
        <p:spPr>
          <a:xfrm>
            <a:off x="1599840" y="2361960"/>
            <a:ext cx="6095880" cy="4267080"/>
          </a:xfrm>
          <a:prstGeom prst="rect">
            <a:avLst/>
          </a:prstGeom>
          <a:noFill/>
          <a:ln w="0">
            <a:noFill/>
          </a:ln>
        </p:spPr>
        <p:txBody>
          <a:bodyPr anchor="t">
            <a:norm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he control for this experiment will be half of the bean plant population receiving water from the City of Phoenix supp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variable:  The plants in the group receiving the treatment of being watered with the salt solution are being tested for ability to thrive with saline sol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t variable:  The dependent variables to be measured will be actual plant height and leaf color.</a:t>
            </a:r>
            <a:endParaRPr b="0" lang="en-US" sz="20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ypothesis</a:t>
            </a:r>
            <a:endParaRPr b="0" lang="en-US" sz="3600" spc="-1" strike="noStrike">
              <a:solidFill>
                <a:srgbClr val="000000"/>
              </a:solidFill>
              <a:latin typeface="Verdana"/>
            </a:endParaRPr>
          </a:p>
        </p:txBody>
      </p:sp>
      <p:sp>
        <p:nvSpPr>
          <p:cNvPr id="96" name="PlaceHolder 2"/>
          <p:cNvSpPr>
            <a:spLocks noGrp="1"/>
          </p:cNvSpPr>
          <p:nvPr>
            <p:ph/>
          </p:nvPr>
        </p:nvSpPr>
        <p:spPr>
          <a:xfrm>
            <a:off x="1066680" y="2361960"/>
            <a:ext cx="7010640" cy="3352680"/>
          </a:xfrm>
          <a:prstGeom prst="rect">
            <a:avLst/>
          </a:prstGeom>
          <a:noFill/>
          <a:ln w="0">
            <a:noFill/>
          </a:ln>
        </p:spPr>
        <p:txBody>
          <a:bodyPr anchor="t">
            <a:normAutofit/>
          </a:bodyPr>
          <a:p>
            <a:pPr marL="684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plants receiving the 20% saline solution will die or fail to thrive as compared to the control bean plant group</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terials</a:t>
            </a:r>
            <a:endParaRPr b="0" lang="en-US" sz="3600" spc="-1" strike="noStrike">
              <a:solidFill>
                <a:srgbClr val="000000"/>
              </a:solidFill>
              <a:latin typeface="Verdana"/>
            </a:endParaRPr>
          </a:p>
        </p:txBody>
      </p:sp>
      <p:sp>
        <p:nvSpPr>
          <p:cNvPr id="98" name="PlaceHolder 2"/>
          <p:cNvSpPr>
            <a:spLocks noGrp="1"/>
          </p:cNvSpPr>
          <p:nvPr>
            <p:ph/>
          </p:nvPr>
        </p:nvSpPr>
        <p:spPr>
          <a:xfrm>
            <a:off x="1371600" y="2361960"/>
            <a:ext cx="6477120" cy="3352680"/>
          </a:xfrm>
          <a:prstGeom prst="rect">
            <a:avLst/>
          </a:prstGeom>
          <a:noFill/>
          <a:ln w="0">
            <a:noFill/>
          </a:ln>
        </p:spPr>
        <p:txBody>
          <a:bodyPr anchor="t">
            <a:normAutofit fontScale="83000"/>
          </a:bodyPr>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1000 ml beaker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Balanc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Salt-  20 g/L</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pinto bean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¼ cup peat pot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door area receiving appox. 6 hrs. of sunlight per day</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cm rul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llogg potting mix- 150 g/pot</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tap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20% salt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 growth log templat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camera</a:t>
            </a:r>
            <a:endParaRPr b="0" lang="en-US" sz="1800" spc="-1" strike="noStrike">
              <a:solidFill>
                <a:srgbClr val="000000"/>
              </a:solidFill>
              <a:latin typeface="Times New Roman"/>
            </a:endParaRPr>
          </a:p>
          <a:p>
            <a:pPr marL="284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cedure</a:t>
            </a:r>
            <a:endParaRPr b="0" lang="en-US" sz="3600" spc="-1" strike="noStrike">
              <a:solidFill>
                <a:srgbClr val="000000"/>
              </a:solidFill>
              <a:latin typeface="Verdana"/>
            </a:endParaRPr>
          </a:p>
        </p:txBody>
      </p:sp>
      <p:sp>
        <p:nvSpPr>
          <p:cNvPr id="100" name="PlaceHolder 2"/>
          <p:cNvSpPr>
            <a:spLocks noGrp="1"/>
          </p:cNvSpPr>
          <p:nvPr>
            <p:ph/>
          </p:nvPr>
        </p:nvSpPr>
        <p:spPr>
          <a:xfrm>
            <a:off x="456840" y="990360"/>
            <a:ext cx="8458200" cy="4724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Establish an outside area that receives approximately 6 hours of sunlight per day that will accommodate 20 pot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ill 20 ¼ cup peat pots with 150 grams of Kellogg potting mix per po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Place one pinto bean in each pot at a depth of 3 centimeter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vide plants into two groups of te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Label one group “Control” and the other group, “Treatmen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Place both groups in the outside sunlit area determined in step #1.</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Label beakers #1 and #2-</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Fill beaker #1 with 1000 ml of tap water.</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Weigh 20g of salt, add to beaker #2.  Fill the beaker up to the 1000ml line.  (This will result in the 20% solutio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ter the control group of plants with 100ml of water, from beaker #1, twice per day- 7:00AM and 5:00 PM.  Refill the beaker as needed from the City water supply- </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the treatment group with 100ml of water from beaker #2.  Twice per day, 7:00AM and 5:00PM-  Prepare more solution as needed describer in step 9-</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 plant growth and observe leaf color every 3 days for 4 month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Enter data in Excel program, analyze data, report results, list conclusions.</a:t>
            </a:r>
            <a:endParaRPr b="0" lang="en-US" sz="1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8080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Observations</a:t>
            </a:r>
            <a:endParaRPr b="0" lang="en-US" sz="3600" spc="-1" strike="noStrike">
              <a:solidFill>
                <a:srgbClr val="000000"/>
              </a:solidFill>
              <a:latin typeface="Verdana"/>
            </a:endParaRPr>
          </a:p>
        </p:txBody>
      </p:sp>
      <p:sp>
        <p:nvSpPr>
          <p:cNvPr id="102" name="PlaceHolder 2"/>
          <p:cNvSpPr>
            <a:spLocks noGrp="1"/>
          </p:cNvSpPr>
          <p:nvPr>
            <p:ph/>
          </p:nvPr>
        </p:nvSpPr>
        <p:spPr>
          <a:xfrm>
            <a:off x="1905120" y="1142640"/>
            <a:ext cx="4952880" cy="3809880"/>
          </a:xfrm>
          <a:prstGeom prst="rect">
            <a:avLst/>
          </a:prstGeom>
          <a:noFill/>
          <a:ln w="0">
            <a:noFill/>
          </a:ln>
        </p:spPr>
        <p:txBody>
          <a:bodyPr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an Plant Growth: Treatment/Control</a:t>
            </a: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The treatment plants started to yellow at observation four where the control maintained a healthy deep green color.  The color change corresponded to the slowing of growth relative to the control plants.</a:t>
            </a:r>
            <a:endParaRPr b="0" lang="en-US" sz="1800" spc="-1" strike="noStrike">
              <a:solidFill>
                <a:srgbClr val="000000"/>
              </a:solidFill>
              <a:latin typeface="Times New Roman"/>
            </a:endParaRPr>
          </a:p>
        </p:txBody>
      </p:sp>
      <p:pic>
        <p:nvPicPr>
          <p:cNvPr id="103" name="Chart 4" descr=""/>
          <p:cNvPicPr/>
          <p:nvPr/>
        </p:nvPicPr>
        <p:blipFill>
          <a:blip r:embed="rId1"/>
          <a:stretch/>
        </p:blipFill>
        <p:spPr>
          <a:xfrm>
            <a:off x="1365120" y="1901880"/>
            <a:ext cx="5877000" cy="274932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00:03:48Z</dcterms:created>
  <dc:creator>Connie Campbell</dc:creator>
  <dc:description/>
  <cp:keywords/>
  <dc:language>en-US</dc:language>
  <cp:lastModifiedBy>default</cp:lastModifiedBy>
  <dcterms:modified xsi:type="dcterms:W3CDTF">2010-06-09T19:50:52Z</dcterms:modified>
  <cp:revision>16</cp:revision>
  <dc:subject/>
  <dc:title>Science Fair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