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11.gif" ContentType="image/gif"/>
  <Override PartName="/ppt/media/image19.gif" ContentType="image/gif"/>
  <Override PartName="/ppt/media/image1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523A-81A9-42B3-B7AA-F7D33BDBC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25AB-4563-4BC9-A4CA-43B1C534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4C5BA-BF40-49B7-B6FE-A66C0495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1F69-DE86-4FBE-BCAB-65E42007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8B6DB-50E2-48C5-92AC-E64C495F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BB95D-FD67-4CA4-B730-1C4B9F1F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EDBF1-204A-4B45-9DF6-F38F03525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A4644-5D2E-40E8-945D-1DE20B2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2FF8-35ED-4AF8-8167-C446CCFD3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2D13B-F695-411D-8CB9-413C59199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5B5E-7EA1-4D5E-8F0F-A5112E83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82D6-D6B4-4926-B45F-F3CDA6F8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7BC5-DB3C-4E36-AAA0-D112F79D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2371A-8417-4963-86C0-7910793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80851-8A5D-4A93-A685-299C443B6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42E5-285C-4157-8F5C-C3C217D6B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AB88-5FC2-423A-A932-EB569AD07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5CAC2F-FFD7-41A3-95E2-7D137C7A8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25030A-A0AE-4EA2-BFC1-9DD83DFF2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F2977-BCB4-484D-B784-BCEBD4905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CE1B0C-4032-4344-96DC-EC6F92489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FCD055-F895-40F7-B42C-61382F011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0E75-9E46-4063-B410-81BF66778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B5198-D531-4D51-A17A-E7D340D60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01BB5-85F3-4A5F-87C4-C29E0F9F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993A3-2510-4935-8DD4-C940ED5F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623CB4-7CBF-4867-86DE-621DB96F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C1612A-B0FC-457D-AA39-8B7D49B46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FE861-F387-4AE3-A041-12B528F34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A073E6-A3A9-42D8-B29C-64BC69300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78FEC-6FD8-42C2-873C-54F509A30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E787E-99FF-491E-A52A-CF3DB922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FF29-7FC3-45B3-8675-DC29C78A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C4C4-2183-4CA5-9360-CCF6DB2C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8A5F7-A2B4-4726-9D7A-30AA1729B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1447-BE75-43D4-AC78-A285B54A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D31C6-69AF-427D-B445-1FC7E978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037A9-2BD1-4808-B100-1759B271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12215-1307-48F4-9A38-1D9CD001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41769-5B2F-4D80-8631-5492B57B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D77F5-1F7C-4CE8-AEC0-D0E057F4D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51E2B-C72F-402B-9451-64C03F769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04408-7177-4D2B-9251-194C352E1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A12E-112E-4785-8B2D-5F1190ED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35E1-9320-42A9-B436-84E2AF2FA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9C15-C41A-4149-98F8-E7F128A7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21A0-2AC6-417A-9062-A997F1E5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7BA6-080B-4096-ABC5-B7B38C8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6607-129E-4DCE-BA4A-48DEFA23D6B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A60D4-7380-4599-9219-FE02A2F2BC0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F1D8F-335F-487C-A5DF-CFE05D7E624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9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55121-C5D0-4876-9F1B-D6D6622201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j0283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3048120"/>
            <a:ext cx="5410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Wandering </a:t>
            </a:r>
            <a:r>
              <a:rPr b="1" lang="en-US" sz="6600" spc="-1" strike="noStrike">
                <a:solidFill>
                  <a:srgbClr val="ff6600"/>
                </a:solidFill>
                <a:latin typeface="Bazooka"/>
              </a:rPr>
              <a:t>Wanda’s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 </a:t>
            </a:r>
            <a:r>
              <a:rPr b="0" lang="en-US" sz="8000" spc="-1" strike="noStrike">
                <a:solidFill>
                  <a:srgbClr val="00ff00"/>
                </a:solidFill>
                <a:latin typeface="Bazooka"/>
              </a:rPr>
              <a:t>“Weather”</a:t>
            </a:r>
            <a:r>
              <a:rPr b="0" lang="en-US" sz="7200" spc="-1" strike="noStrike">
                <a:solidFill>
                  <a:srgbClr val="ffcc00"/>
                </a:solidFill>
                <a:latin typeface="Bazooka"/>
              </a:rPr>
              <a:t> 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Riddles</a:t>
            </a:r>
            <a:endParaRPr b="0" i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5" name="Picture 11" descr="j0232157"/>
          <p:cNvPicPr/>
          <p:nvPr/>
        </p:nvPicPr>
        <p:blipFill>
          <a:blip r:embed="rId2"/>
          <a:stretch/>
        </p:blipFill>
        <p:spPr>
          <a:xfrm>
            <a:off x="5410080" y="1676520"/>
            <a:ext cx="385776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0" y="0"/>
            <a:ext cx="6477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tchup"/>
              </a:rPr>
              <a:t>Student &amp; Teacher Generated Weather Riddle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7" name="B. Dylan Blowing in the Wind.mp3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j0283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4"/>
          <p:cNvSpPr/>
          <p:nvPr/>
        </p:nvSpPr>
        <p:spPr>
          <a:xfrm>
            <a:off x="3657600" y="2666880"/>
            <a:ext cx="54864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s.  T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oud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.  When the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droplet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get too heavy I fall from the clouds. 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4" name="Picture 16" descr="j0232157"/>
          <p:cNvPicPr/>
          <p:nvPr/>
        </p:nvPicPr>
        <p:blipFill>
          <a:blip r:embed="rId2"/>
          <a:stretch/>
        </p:blipFill>
        <p:spPr>
          <a:xfrm>
            <a:off x="228600" y="304920"/>
            <a:ext cx="3346560" cy="4495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7"/>
          <p:cNvSpPr/>
          <p:nvPr/>
        </p:nvSpPr>
        <p:spPr>
          <a:xfrm>
            <a:off x="762120" y="4800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Unicode MS"/>
              </a:rPr>
              <a:t>Answer:</a:t>
            </a:r>
            <a:r>
              <a:rPr b="1" i="1" lang="en-US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Rain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6" name="jr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diamond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Now can you think of </a:t>
            </a:r>
            <a:r>
              <a:rPr b="1" lang="en-US" sz="4000" spc="-1" strike="noStrike">
                <a:solidFill>
                  <a:srgbClr val="ff6600"/>
                </a:solidFill>
                <a:latin typeface="Catchup"/>
              </a:rPr>
              <a:t>“</a:t>
            </a:r>
            <a:r>
              <a:rPr b="1" lang="en-US" sz="4800" spc="-1" strike="noStrike">
                <a:solidFill>
                  <a:srgbClr val="ff6600"/>
                </a:solidFill>
                <a:latin typeface="Century"/>
              </a:rPr>
              <a:t>Science” </a:t>
            </a: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ridd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4" descr="j0288870"/>
          <p:cNvPicPr/>
          <p:nvPr/>
        </p:nvPicPr>
        <p:blipFill>
          <a:blip r:embed="rId1"/>
          <a:stretch/>
        </p:blipFill>
        <p:spPr>
          <a:xfrm>
            <a:off x="3505320" y="175248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j0336789"/>
          <p:cNvPicPr/>
          <p:nvPr/>
        </p:nvPicPr>
        <p:blipFill>
          <a:blip r:embed="rId2"/>
          <a:stretch/>
        </p:blipFill>
        <p:spPr>
          <a:xfrm>
            <a:off x="6324480" y="1752480"/>
            <a:ext cx="246060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j0282789"/>
          <p:cNvPicPr/>
          <p:nvPr/>
        </p:nvPicPr>
        <p:blipFill>
          <a:blip r:embed="rId3"/>
          <a:stretch/>
        </p:blipFill>
        <p:spPr>
          <a:xfrm>
            <a:off x="0" y="1828800"/>
            <a:ext cx="3351240" cy="4419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j0283809"/>
          <p:cNvPicPr/>
          <p:nvPr/>
        </p:nvPicPr>
        <p:blipFill>
          <a:blip r:embed="rId4"/>
          <a:stretch/>
        </p:blipFill>
        <p:spPr>
          <a:xfrm>
            <a:off x="7162920" y="380880"/>
            <a:ext cx="1257120" cy="1201680"/>
          </a:xfrm>
          <a:prstGeom prst="rect">
            <a:avLst/>
          </a:prstGeom>
          <a:ln w="0">
            <a:noFill/>
          </a:ln>
        </p:spPr>
      </p:pic>
      <p:pic>
        <p:nvPicPr>
          <p:cNvPr id="222" name="The Greatest Love Of All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6" descr="j0303366"/>
          <p:cNvPicPr/>
          <p:nvPr/>
        </p:nvPicPr>
        <p:blipFill>
          <a:blip r:embed="rId1"/>
          <a:stretch/>
        </p:blipFill>
        <p:spPr>
          <a:xfrm>
            <a:off x="533520" y="1905120"/>
            <a:ext cx="4038480" cy="3860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457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azooka"/>
              </a:rPr>
              <a:t>KEEP Y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EYES ON SCIENCE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8" descr="j0236210"/>
          <p:cNvPicPr/>
          <p:nvPr/>
        </p:nvPicPr>
        <p:blipFill>
          <a:blip r:embed="rId2"/>
          <a:stretch/>
        </p:blipFill>
        <p:spPr>
          <a:xfrm>
            <a:off x="5257800" y="2895480"/>
            <a:ext cx="2514600" cy="8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232157"/>
          <p:cNvPicPr/>
          <p:nvPr/>
        </p:nvPicPr>
        <p:blipFill>
          <a:blip r:embed="rId1"/>
          <a:stretch/>
        </p:blipFill>
        <p:spPr>
          <a:xfrm>
            <a:off x="304920" y="380880"/>
            <a:ext cx="4484520" cy="6019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2880" y="291600"/>
            <a:ext cx="373392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ering Wanda now wants you to play a fun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ath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ddle game with her.   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Are you read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eather instrument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ople use me to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asure temperature.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bright red on hot day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j0232157"/>
          <p:cNvPicPr/>
          <p:nvPr/>
        </p:nvPicPr>
        <p:blipFill>
          <a:blip r:embed="rId1"/>
          <a:stretch/>
        </p:blipFill>
        <p:spPr>
          <a:xfrm>
            <a:off x="5638680" y="380880"/>
            <a:ext cx="323388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57913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Thermometer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3" name="Picture 16" descr="j0288942"/>
          <p:cNvPicPr/>
          <p:nvPr/>
        </p:nvPicPr>
        <p:blipFill>
          <a:blip r:embed="rId2"/>
          <a:stretch/>
        </p:blipFill>
        <p:spPr>
          <a:xfrm>
            <a:off x="4114800" y="4952880"/>
            <a:ext cx="16686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 occur after a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ightning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  You can tell how far away I am by counting seconds after the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occurs.  I am loud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I 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j0232157"/>
          <p:cNvPicPr/>
          <p:nvPr/>
        </p:nvPicPr>
        <p:blipFill>
          <a:blip r:embed="rId1"/>
          <a:stretch/>
        </p:blipFill>
        <p:spPr>
          <a:xfrm>
            <a:off x="5715000" y="2590920"/>
            <a:ext cx="2155680" cy="2895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5339880" y="553068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hunder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7" name="Picture 9" descr="j025444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664080"/>
          </a:xfrm>
          <a:prstGeom prst="rect">
            <a:avLst/>
          </a:prstGeom>
          <a:ln w="0">
            <a:noFill/>
          </a:ln>
        </p:spPr>
      </p:pic>
      <p:pic>
        <p:nvPicPr>
          <p:cNvPr id="188" name="th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j016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90" name="Rectangle 7"/>
          <p:cNvSpPr/>
          <p:nvPr/>
        </p:nvSpPr>
        <p:spPr>
          <a:xfrm>
            <a:off x="380880" y="5715000"/>
            <a:ext cx="34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Lightning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1" name="Picture 14" descr="j0232157"/>
          <p:cNvPicPr/>
          <p:nvPr/>
        </p:nvPicPr>
        <p:blipFill>
          <a:blip r:embed="rId2"/>
          <a:stretch/>
        </p:blipFill>
        <p:spPr>
          <a:xfrm>
            <a:off x="685800" y="1523880"/>
            <a:ext cx="2736720" cy="36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3886200" y="2819520"/>
            <a:ext cx="4952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am a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lectric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in the sky.  I am dangerous.  I can strike people.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slow" advTm="15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j0189255"/>
          <p:cNvPicPr/>
          <p:nvPr/>
        </p:nvPicPr>
        <p:blipFill>
          <a:blip r:embed="rId1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3657600" y="2743200"/>
            <a:ext cx="5105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very dangerous.  I a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which extends fro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ud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I have very strong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ind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People go into ditches or in halls when I come around. 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 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5" name="Picture 14" descr="j0232157"/>
          <p:cNvPicPr/>
          <p:nvPr/>
        </p:nvPicPr>
        <p:blipFill>
          <a:blip r:embed="rId2"/>
          <a:stretch/>
        </p:blipFill>
        <p:spPr>
          <a:xfrm>
            <a:off x="533520" y="1143000"/>
            <a:ext cx="3189240" cy="4284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1231560" y="5607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ornado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7" name="rain showers.MP3" descr=""/>
          <p:cNvPicPr/>
          <p:nvPr/>
        </p:nvPicPr>
        <p:blipFill>
          <a:blip r:embed="rId3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a very serious and dangerou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travel well ove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hav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rong winds, tornadoes, rain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and a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ye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People leave their homes when I came into their are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232157"/>
          <p:cNvPicPr/>
          <p:nvPr/>
        </p:nvPicPr>
        <p:blipFill>
          <a:blip r:embed="rId1"/>
          <a:stretch/>
        </p:blipFill>
        <p:spPr>
          <a:xfrm>
            <a:off x="6019920" y="0"/>
            <a:ext cx="2495520" cy="3352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5638680" y="3429000"/>
            <a:ext cx="3505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nswer: </a:t>
            </a:r>
            <a:r>
              <a:rPr b="1" i="1" lang="en-US" sz="4800" spc="-1" strike="noStrike" u="sng">
                <a:solidFill>
                  <a:srgbClr val="ffcc00"/>
                </a:solidFill>
                <a:uFillTx/>
                <a:latin typeface="Bazooka"/>
              </a:rPr>
              <a:t>Hurricane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1" name="Picture 10" descr="spiraliz"/>
          <p:cNvPicPr/>
          <p:nvPr/>
        </p:nvPicPr>
        <p:blipFill>
          <a:blip r:embed="rId2"/>
          <a:stretch/>
        </p:blipFill>
        <p:spPr>
          <a:xfrm>
            <a:off x="5715000" y="4905360"/>
            <a:ext cx="3124080" cy="1952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0600" y="304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a found out that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arm 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ses and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ol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moves down. They mix and push together. If they move fast, I form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600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j0232157"/>
          <p:cNvPicPr/>
          <p:nvPr/>
        </p:nvPicPr>
        <p:blipFill>
          <a:blip r:embed="rId1"/>
          <a:stretch/>
        </p:blipFill>
        <p:spPr>
          <a:xfrm>
            <a:off x="1981080" y="0"/>
            <a:ext cx="31766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457200" y="5105520"/>
            <a:ext cx="2286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swer: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Wind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5" name="Picture 16" descr="j0336778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j0336882"/>
          <p:cNvPicPr/>
          <p:nvPr/>
        </p:nvPicPr>
        <p:blipFill>
          <a:blip r:embed="rId3"/>
          <a:stretch/>
        </p:blipFill>
        <p:spPr>
          <a:xfrm>
            <a:off x="2438280" y="4419720"/>
            <a:ext cx="2667240" cy="2073240"/>
          </a:xfrm>
          <a:prstGeom prst="rect">
            <a:avLst/>
          </a:prstGeom>
          <a:ln w="0">
            <a:noFill/>
          </a:ln>
        </p:spPr>
      </p:pic>
      <p:pic>
        <p:nvPicPr>
          <p:cNvPr id="207" name="music.mp3.mp3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1" descr="j0189252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swer:  </a:t>
            </a: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Tahoma"/>
              </a:rPr>
              <a:t>Cloud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1148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play a part in th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cycl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Whe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orms.  I then form.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ain drop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no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alls f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1" name="Picture 17" descr="j0232157"/>
          <p:cNvPicPr/>
          <p:nvPr/>
        </p:nvPicPr>
        <p:blipFill>
          <a:blip r:embed="rId2"/>
          <a:stretch/>
        </p:blipFill>
        <p:spPr>
          <a:xfrm>
            <a:off x="0" y="304920"/>
            <a:ext cx="3714840" cy="4987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24:04Z</dcterms:created>
  <dc:creator>smbodin</dc:creator>
  <dc:description/>
  <dc:language>en-US</dc:language>
  <cp:lastModifiedBy>default</cp:lastModifiedBy>
  <dcterms:modified xsi:type="dcterms:W3CDTF">2010-06-09T00:26:36Z</dcterms:modified>
  <cp:revision>60</cp:revision>
  <dc:subject/>
  <dc:title>OUR CLASS WANTS TO KNOW WHETHER OR NOT WEATHER IS IMPORTANT ?</dc:title>
</cp:coreProperties>
</file>