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F1AECD-9678-4E2C-8513-BD3886B0EE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AB3327-81DE-4324-98F8-1695215D51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113B6-FC6B-4C67-9CD4-E95D3154D0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ED2A7A-3488-415C-86B8-B2F145ED8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20ED6-EDE4-46FA-AF6F-C6B1120FD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92FC53-0B15-44E1-BB71-BE8D573D3E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ADC850-B115-4A11-8B05-32D3F468E8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FCA0A8-2724-4814-8110-808DB6DB85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1B6AD-099D-4BB3-8087-3A9BE58107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16184-3E7C-491A-A463-C4AAB99AC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8A8FC6-198B-4713-A3A7-4E5B2E7CD6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D371A-1160-4E91-B549-A92A9ED54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DE804-329B-4391-84CD-C412CC62F4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51329-6198-48E4-91A8-04A22E5E38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B5CC2C-F163-46F0-8A03-F0DDC9233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C03F74-9786-41CE-A12A-7A794B1C87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1AFEE-AC98-4F18-883A-77EBF60569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D33871-6B6D-4B76-A015-F0DB4A12996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E408CC-9236-44B4-BEFB-7FED407D00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0C9B1B-06AB-4387-8163-1BCA177C853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338554-3DFB-448F-B70A-23DAD5E33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0EF74E-922F-4E59-AFC2-19275F674C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67BEA0-479D-47D7-85B9-F859D7F769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2FE207-7E65-4A40-A2B1-2631BFF59F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10DFE9-9B5D-4A0C-849C-9B47C7AD17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30EF03-FD9A-42D2-BC55-C536AE675A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4FE367-E354-4030-834D-49B66A0508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C2519C-DC61-4831-BAA7-822E8B5F8E2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07C5530-FB31-467F-AFAA-A71DD659EAE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B17FB9-2C86-4646-9877-A9B4C1AC34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68D6A0-0490-4CDE-A1BD-341475A7462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9E9193-B2B5-43FB-AD11-4E6F8E596B6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838245-EF99-4739-B020-2F27BEA0D5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C9F612-92AE-4445-86CA-E0BD3867B6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114DCB-B734-4CD3-BC69-20FC9766E9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FC3DB2-F048-4089-9256-EFE330147C0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21CF56-0ECC-4975-9AA5-06540BCF4E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092B2C-BD28-4BDA-A1AC-AA065678BD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189E4C-B511-431F-9362-BF6DD891A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08836F-F25B-4CA1-A92B-661E87AB73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A176D7-BC93-45BA-8A3D-09E66D5988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3F3158-199E-4F42-A3DD-CAF5347E5A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259FB5B-2CD6-4C5F-A75E-D4B001AD307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F81C44C-BD49-4664-A5EE-AA6CE60AC13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4262D-4F72-4C45-9668-8A98230B8F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3BC8C5C-FC32-4857-8120-C6FF175C53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7DC304-76CE-408B-8F29-0A7E03A989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7837EE-1CCF-41D0-89F8-B2870AE83B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A5A9F1-8FB3-44FD-8E30-8FFDFDB6CD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C1D2AB-FBC6-4FA6-A042-61F0D6AB2F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9F968F-78D9-45A8-9B87-77454D9C93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5F40E0-A27B-42D1-8B87-948FC75F0F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2019F5-0FBA-457C-9FAE-9D0D0C04DF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57158A-7104-44B8-B6FF-57457A07BC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E5920C6-B09F-48E0-BEF2-F0F893A5587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6D6B6-27A6-40B2-9650-0EDC86068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C499E0-27B3-476C-9B2D-FA470991264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A617542-D719-4B27-813C-92CAB40D67E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4EF765-120F-4C08-AD23-B3F72A87B1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3BE27B-B3B6-45B8-9EAE-8DB18805FC0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ACC379-784F-4F96-B302-454120FF32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45899E4-703D-4129-AEBB-122F6263DE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EAD06D8-999B-4EFE-8707-FE5C87DE302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71C356-6EA5-41C6-81B7-7E3D58C1967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384FC7-8C88-4917-988D-206A1A5FB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CBD00A-87E3-411D-83C2-F80C7AAF86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6EA6A-AE5D-4289-B067-8B70874C3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E24D02-6231-416C-87A7-9F75B35F58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FE8C94-A040-4EDD-9A86-C128C2D6AA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C269F1-8C6C-48DE-A982-3DE4C38F299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7C5B602-0FDB-411D-A92B-1A28505587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1C07B3-FAD4-41F2-86B3-558619AD50B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0EC9CB-AFEA-4641-9A13-C539CC9911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CEFD54B-43A1-4EA5-B252-3FB707B6D4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C44B8DF-5956-408F-A66D-A20EEA25F97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98CAB5-AAF4-46F5-885A-AC94C063A1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304195-1AE2-4A7F-8F9C-971DB5DFD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AB234-F4C5-419D-B8D0-DF38C8CBF2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EA0237-0F6E-4666-B214-1D64EAECE1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5B601F-4E00-4549-8C00-6B35D74237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F89E48-4551-4F9E-9DC8-3A505E2B12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3AC1135-E1C7-4B10-9EF7-261FCD8406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BBC7AE-0A7C-4057-9880-04748567DD7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5CF64D-ED57-4A22-BA1E-E7910AA64F0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E92172-EEAA-45AA-B165-AEF33A0A0D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B121D8-4040-488A-B00D-B7E55C1D4EA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D58D67A-63B3-4CD2-A423-8C6F4189F5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16E2F5-70AC-4470-8815-D7682639A3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B7051-6EF0-4720-A8DE-28885796F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343BA3-6317-45F4-B24A-3700E11AC6B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769B311-1566-4A97-84A3-C36C44CCD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A21E62-D0D5-412D-B936-54A93117DF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F0DC83-70B9-4378-8775-A665A6236F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4DA6585-EBCA-4202-83D2-CD7A35E56AC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CB6039F-A874-43DC-8B1C-0AA8A99E17C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D9AC5F-16F8-4B5B-B2B2-2FEECE868AB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4A973-C863-4790-B0AB-B408293FCB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6FF3-9720-4482-8958-D6295730BF9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C7CEE-33FD-4B90-ABC1-2F664433D8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3A206-BA49-41FF-B440-70C03EFDCF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3762-5AE5-46B1-B876-622B7014EBE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BF9A6-4493-45BB-A41D-6DA0EFD57C3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87F25-A313-458A-A997-83AE435B9A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B4EC-9704-4318-A038-656C38CEEB44}"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749600"/>
            <a:ext cx="7785000" cy="1841400"/>
          </a:xfrm>
          <a:prstGeom prst="rect">
            <a:avLst/>
          </a:prstGeom>
          <a:ln w="0">
            <a:noFill/>
          </a:ln>
        </p:spPr>
      </p:pic>
      <p:sp>
        <p:nvSpPr>
          <p:cNvPr id="371" name="PlaceHolder 1"/>
          <p:cNvSpPr>
            <a:spLocks noGrp="1"/>
          </p:cNvSpPr>
          <p:nvPr>
            <p:ph type="subTitle"/>
          </p:nvPr>
        </p:nvSpPr>
        <p:spPr>
          <a:xfrm>
            <a:off x="1752480" y="3428640"/>
            <a:ext cx="6400800" cy="167652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nit Portfolio Presentation</a:t>
            </a: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Barbara L. Geha</a:t>
            </a: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pic>
        <p:nvPicPr>
          <p:cNvPr id="372" name="Picture 5" descr="http://t0.gstatic.com/images?q=tbn:9D7IxoI_WOHnJM:http://www.4neurons.com/other/Magnifying_Glass/Magnifying_Glass.png"/>
          <p:cNvPicPr/>
          <p:nvPr/>
        </p:nvPicPr>
        <p:blipFill>
          <a:blip r:embed="rId2"/>
          <a:stretch/>
        </p:blipFill>
        <p:spPr>
          <a:xfrm>
            <a:off x="4267080" y="914400"/>
            <a:ext cx="2590920" cy="1781280"/>
          </a:xfrm>
          <a:prstGeom prst="rect">
            <a:avLst/>
          </a:prstGeom>
          <a:ln w="0">
            <a:noFill/>
          </a:ln>
        </p:spPr>
      </p:pic>
      <p:pic>
        <p:nvPicPr>
          <p:cNvPr id="373" name="Picture 7" descr="http://t3.gstatic.com/images?q=tbn:cSoDvnW-6SnvAM:http://bloggingwoolf.files.wordpress.com/2008/12/magnifying-glass.jpg"/>
          <p:cNvPicPr/>
          <p:nvPr/>
        </p:nvPicPr>
        <p:blipFill>
          <a:blip r:embed="rId3"/>
          <a:stretch/>
        </p:blipFill>
        <p:spPr>
          <a:xfrm>
            <a:off x="1981080" y="914400"/>
            <a:ext cx="1752840" cy="167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599840" y="1447560"/>
            <a:ext cx="7162920" cy="453060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ents will learn the differences and similarities of various informational resources and how to apply them to their everyday lives. Through group and individual participation students will create presentations and demonstrate their understanding of the best resources to use to locate information.</a:t>
            </a:r>
            <a:endParaRPr b="0" lang="en-US" sz="2800" spc="-1" strike="noStrike">
              <a:solidFill>
                <a:srgbClr val="000000"/>
              </a:solidFill>
              <a:latin typeface="Lucida Sans Unicode"/>
            </a:endParaRPr>
          </a:p>
        </p:txBody>
      </p:sp>
      <p:pic>
        <p:nvPicPr>
          <p:cNvPr id="375" name="Rectangle 2" descr=""/>
          <p:cNvPicPr/>
          <p:nvPr/>
        </p:nvPicPr>
        <p:blipFill>
          <a:blip r:embed="rId1"/>
          <a:stretch/>
        </p:blipFill>
        <p:spPr>
          <a:xfrm>
            <a:off x="450720" y="268200"/>
            <a:ext cx="8242560" cy="1158840"/>
          </a:xfrm>
          <a:prstGeom prst="rect">
            <a:avLst/>
          </a:prstGeom>
          <a:ln w="0">
            <a:noFill/>
          </a:ln>
        </p:spPr>
      </p:pic>
      <p:sp>
        <p:nvSpPr>
          <p:cNvPr id="376"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447920" y="1066320"/>
            <a:ext cx="7238880" cy="5257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Essential Question </a:t>
            </a:r>
            <a:br>
              <a:rPr sz="2800"/>
            </a:br>
            <a:r>
              <a:rPr b="0" lang="en-US" sz="2400" spc="-1" strike="noStrike">
                <a:solidFill>
                  <a:srgbClr val="000000"/>
                </a:solidFill>
                <a:latin typeface="Lucida Sans Unicode"/>
              </a:rPr>
              <a:t>Where is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Unit Questions</a:t>
            </a:r>
            <a:br>
              <a:rPr sz="2800"/>
            </a:br>
            <a:r>
              <a:rPr b="0" lang="en-US" sz="2400" spc="-1" strike="noStrike">
                <a:solidFill>
                  <a:srgbClr val="000000"/>
                </a:solidFill>
                <a:latin typeface="Lucida Sans Unicode"/>
              </a:rPr>
              <a:t>Where do you find the informati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Content Question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kind of information can be found using a dictionary, thesaurus, almanac, atlas, encyclopedia, website, trade book, journal, and textbook?</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an online source or a book be used effectively in locating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do I know what is the best resource to use to find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are the similarities and differences between the various informational resource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9" name="Rectangle 2" descr=""/>
          <p:cNvPicPr/>
          <p:nvPr/>
        </p:nvPicPr>
        <p:blipFill>
          <a:blip r:embed="rId1"/>
          <a:stretch/>
        </p:blipFill>
        <p:spPr>
          <a:xfrm>
            <a:off x="195120" y="268200"/>
            <a:ext cx="860112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447920" y="1599840"/>
            <a:ext cx="7238880" cy="1066680"/>
          </a:xfrm>
          <a:prstGeom prst="rect">
            <a:avLst/>
          </a:prstGeom>
          <a:noFill/>
          <a:ln w="0">
            <a:noFill/>
          </a:ln>
        </p:spPr>
        <p:txBody>
          <a:bodyPr anchor="t">
            <a:normAutofit/>
          </a:bodyPr>
          <a:p>
            <a:pPr>
              <a:spcBef>
                <a:spcPts val="400"/>
              </a:spcBef>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project will help my students develop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skills by:</a:t>
            </a:r>
            <a:endParaRPr b="0" lang="en-US" sz="2700" spc="-1" strike="noStrike">
              <a:solidFill>
                <a:srgbClr val="000000"/>
              </a:solidFill>
              <a:latin typeface="Lucida Sans Unicode"/>
            </a:endParaRPr>
          </a:p>
        </p:txBody>
      </p:sp>
      <p:pic>
        <p:nvPicPr>
          <p:cNvPr id="381" name="Rectangle 2" descr=""/>
          <p:cNvPicPr/>
          <p:nvPr/>
        </p:nvPicPr>
        <p:blipFill>
          <a:blip r:embed="rId1"/>
          <a:stretch/>
        </p:blipFill>
        <p:spPr>
          <a:xfrm>
            <a:off x="450720" y="268200"/>
            <a:ext cx="8242560" cy="1158840"/>
          </a:xfrm>
          <a:prstGeom prst="rect">
            <a:avLst/>
          </a:prstGeom>
          <a:ln w="0">
            <a:noFill/>
          </a:ln>
        </p:spPr>
      </p:pic>
      <p:sp>
        <p:nvSpPr>
          <p:cNvPr id="382" name="Text Box 4"/>
          <p:cNvSpPr/>
          <p:nvPr/>
        </p:nvSpPr>
        <p:spPr>
          <a:xfrm>
            <a:off x="1523880" y="2666880"/>
            <a:ext cx="7239240" cy="3942000"/>
          </a:xfrm>
          <a:prstGeom prst="rect">
            <a:avLst/>
          </a:prstGeom>
          <a:noFill/>
          <a:ln w="0">
            <a:noFill/>
          </a:ln>
        </p:spPr>
        <p:style>
          <a:lnRef idx="0"/>
          <a:fillRef idx="0"/>
          <a:effectRef idx="0"/>
          <a:fontRef idx="minor"/>
        </p:style>
        <p:txBody>
          <a:bodyPr lIns="90000" rIns="90000" tIns="46800" bIns="46800" anchor="t">
            <a:spAutoFit/>
          </a:bodyPr>
          <a:p>
            <a:pPr>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Collaborating with peer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e, think critically, and gain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conclusions, make informed decisions, apply knowledge to new situations and create new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knowledge and participate ethically and productively as members of our democratic socie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sue personal and aesthetic grow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1182600" y="298440"/>
            <a:ext cx="7686720" cy="1158840"/>
          </a:xfrm>
          <a:prstGeom prst="rect">
            <a:avLst/>
          </a:prstGeom>
          <a:ln w="0">
            <a:noFill/>
          </a:ln>
        </p:spPr>
      </p:pic>
      <p:sp>
        <p:nvSpPr>
          <p:cNvPr id="384" name="Text Box 7"/>
          <p:cNvSpPr/>
          <p:nvPr/>
        </p:nvSpPr>
        <p:spPr>
          <a:xfrm>
            <a:off x="1371600" y="1066680"/>
            <a:ext cx="7162920" cy="612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Purpose of the Assess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gather information about what students already know and what they need to know about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I want to learn from my stud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ant to find out what they already know about the Unit Questions and what they know about information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I have tried to promote higher-order think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ask students to find relationships and draw conclusions about various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the assessment information helps me and my students plan for upcoming activities in the un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f students have misconceptions about  various informational resources, I can provide scaffolds. If students have different levels of understanding about informational resources, I can provide various resources. We will revisit this assessment throughout the unit for students to add their knowled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feedback or additional ideas I’d lik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ould like help on my student activities. I think I need to elicit more higher-order thinking, but I’m not sure how.</a:t>
            </a:r>
            <a:endParaRPr b="0" lang="en-US" sz="1800" spc="-1" strike="noStrike">
              <a:solidFill>
                <a:srgbClr val="000000"/>
              </a:solidFill>
              <a:latin typeface="Arial"/>
            </a:endParaRPr>
          </a:p>
        </p:txBody>
      </p:sp>
      <p:graphicFrame>
        <p:nvGraphicFramePr>
          <p:cNvPr id="385" name="Object 9"/>
          <p:cNvGraphicFramePr/>
          <p:nvPr/>
        </p:nvGraphicFramePr>
        <p:xfrm>
          <a:off x="7696080" y="762120"/>
          <a:ext cx="914400" cy="714240"/>
        </p:xfrm>
        <a:graphic>
          <a:graphicData uri="http://schemas.openxmlformats.org/presentationml/2006/ole">
            <p:oleObj progId="Word.Document.12" r:id="rId2" spid="">
              <p:embed/>
              <p:pic>
                <p:nvPicPr>
                  <p:cNvPr id="386" name="Object 9" descr=""/>
                  <p:cNvPicPr/>
                  <p:nvPr/>
                </p:nvPicPr>
                <p:blipFill>
                  <a:blip r:embed="rId3"/>
                  <a:stretch/>
                </p:blipFill>
                <p:spPr>
                  <a:xfrm>
                    <a:off x="7696080" y="762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d ways to get my students more interested in learning about all the various information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arn about different kinds of technology my students and I can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are ideas with other teachers</a:t>
            </a:r>
            <a:endParaRPr b="0" lang="en-US" sz="2700" spc="-1" strike="noStrike">
              <a:solidFill>
                <a:srgbClr val="000000"/>
              </a:solidFill>
              <a:latin typeface="Lucida Sans Unicode"/>
            </a:endParaRPr>
          </a:p>
        </p:txBody>
      </p:sp>
      <p:pic>
        <p:nvPicPr>
          <p:cNvPr id="388" name="Rectangle 4" descr=""/>
          <p:cNvPicPr/>
          <p:nvPr/>
        </p:nvPicPr>
        <p:blipFill>
          <a:blip r:embed="rId1"/>
          <a:stretch/>
        </p:blipFill>
        <p:spPr>
          <a:xfrm>
            <a:off x="1139760" y="268200"/>
            <a:ext cx="755352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371600" y="1905120"/>
            <a:ext cx="723888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learn about all the various informational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become more independent learners and gain knowledge about what is the best informational resource to use that is available online and in book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Rectangle 2" descr=""/>
          <p:cNvPicPr/>
          <p:nvPr/>
        </p:nvPicPr>
        <p:blipFill>
          <a:blip r:embed="rId1"/>
          <a:stretch/>
        </p:blipFill>
        <p:spPr>
          <a:xfrm>
            <a:off x="1365120" y="530280"/>
            <a:ext cx="73281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te additional technology available for student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 engaging lessons and activities that targets the needs of diverse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learners</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default</cp:lastModifiedBy>
  <dcterms:modified xsi:type="dcterms:W3CDTF">2010-06-09T20:23:21Z</dcterms:modified>
  <cp:revision>36</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